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3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37162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3505320" y="549360"/>
            <a:ext cx="2057400" cy="16113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878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5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429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33"/>
                </a:solidFill>
                <a:latin typeface="Arial"/>
              </a:rPr>
              <a:t>Australia’s Experience in Alternative Transport Fuels</a:t>
            </a: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0" y="494172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Over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33"/>
                </a:solidFill>
                <a:latin typeface="Arial"/>
              </a:rPr>
              <a:t>Challenges to Uptake of Alternative Fuels</a:t>
            </a: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k of competitively-priced altern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PG, CNG, LNG, Hydrog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equire engine modifications or specific engin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fuel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icult to supply enoug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ould require transfer of land use from other producti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purpose (eg, converting total national oilseed crop t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biodiesel would yield only 6% of current diesel nee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33"/>
                </a:solidFill>
                <a:latin typeface="Arial"/>
              </a:rPr>
              <a:t>Challenges to Uptake of Alternative Fuels </a:t>
            </a:r>
            <a:r>
              <a:rPr b="1" lang="en-US" sz="2000" spc="-1" strike="noStrike">
                <a:solidFill>
                  <a:srgbClr val="336633"/>
                </a:solidFill>
                <a:latin typeface="Arial"/>
              </a:rPr>
              <a:t>(continued)</a:t>
            </a:r>
            <a:endParaRPr b="1" lang="en-US" sz="20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-life expectancy of existing fuel production and distribution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ing stock of vehicles, with no significant change with next generation of vehicles which will include some hybr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ility/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perception (eg, ‘ethanol blends damage engine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33"/>
                </a:solidFill>
                <a:latin typeface="Arial"/>
              </a:rPr>
              <a:t>Research &amp; Development</a:t>
            </a: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production costs of alternative transport f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33"/>
                </a:solidFill>
                <a:latin typeface="Arial"/>
              </a:rPr>
              <a:t>Main alternative transport fuels in use in Australia</a:t>
            </a: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otive LPG (Autogas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% of transport need requirements by volu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% by energy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% in total comprised of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l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fuels:  Ethanol, Biodie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-methyl 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38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33"/>
                </a:solidFill>
                <a:latin typeface="Arial"/>
              </a:rPr>
              <a:t>Government Policy Framework to Support Use and Production of Alternative Fuels</a:t>
            </a:r>
            <a:endParaRPr b="1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240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0 million litre biofuels objective by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hanol&amp; Biodiesel the 2 biofuels with commercial prospects in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lternative fuels sector to develop and promote their products in the commercial market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ltimately to compete on commercial mer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government mandate on use of alternative transport fue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33"/>
                </a:solidFill>
                <a:latin typeface="Arial"/>
              </a:rPr>
              <a:t>Government Policy Framework </a:t>
            </a:r>
            <a:r>
              <a:rPr b="1" lang="en-US" sz="1800" spc="-1" strike="noStrike">
                <a:solidFill>
                  <a:srgbClr val="336633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3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ZERO EXCISE ON ALTERNATIVE FU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ive zero rate of excise to 2011 via production grants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se in over 5 even annual steps from Jul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ise rates to be based on energy cont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high-energy (biodiesel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id-energy  (LPG, LNG, Ethanol, di-methyl ethe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low-energy   (methan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% discount to apply to energy content excis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33"/>
                </a:solidFill>
                <a:latin typeface="Arial"/>
              </a:rPr>
              <a:t>Government Policy Framework </a:t>
            </a:r>
            <a:r>
              <a:rPr b="1" lang="en-US" sz="1800" spc="-1" strike="noStrike">
                <a:solidFill>
                  <a:srgbClr val="336633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 PRODUCTION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ed until 30 Jun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production in Australia from biomass feedstock blended into or used as transport 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of January 2005, AUD37.3 million paid to Australia’s 3 fuel grade ethanol produ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33"/>
                </a:solidFill>
                <a:latin typeface="Arial"/>
              </a:rPr>
              <a:t>Government Policy Framework </a:t>
            </a:r>
            <a:r>
              <a:rPr b="1" lang="en-US" sz="1800" spc="-1" strike="noStrike">
                <a:solidFill>
                  <a:srgbClr val="336633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IODIESEL PRODUCTION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production and importation of eligible biodie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ered under Energy Grants Cleaner Fuels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progressively phased out from July 2011-July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33"/>
                </a:solidFill>
                <a:latin typeface="Arial"/>
              </a:rPr>
              <a:t>Government Policy Framework </a:t>
            </a:r>
            <a:r>
              <a:rPr b="1" lang="en-US" sz="1800" spc="-1" strike="noStrike">
                <a:solidFill>
                  <a:srgbClr val="336633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IOFUELS CAPITAL GRANT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 37.6 million fund for one-off capital subsidies (16 cpl) for projects providing new or expanded biofuels capacit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o date, grants to 3 ethanol and 4 biodiesel pl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criteria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inimum production levels (eg, 5 million litres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long-term commercial viabil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use of renewable feedsto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egulatory complian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vidence of firm contracts with domestic transport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33"/>
                </a:solidFill>
                <a:latin typeface="Arial"/>
              </a:rPr>
              <a:t>Government Policy Framework </a:t>
            </a:r>
            <a:r>
              <a:rPr b="1" lang="en-US" sz="1800" spc="-1" strike="noStrike">
                <a:solidFill>
                  <a:srgbClr val="336633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TERNATIVE FUELS CONVERSIO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ts up to 50% to operators and manufacturers to convert heavy commercial vehicles and buses to natural gas or LP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r combination of either with conventional fuel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ffset cost of fuel conversions &amp; upgrad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urchase of new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ts to help manufacturers to develop and test engine technologies that demonstrate greenhouse gas benefits and maintain air quality emissions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33"/>
                </a:solidFill>
                <a:latin typeface="Arial"/>
              </a:rPr>
              <a:t>Government Policy Framework </a:t>
            </a:r>
            <a:r>
              <a:rPr b="1" lang="en-US" sz="1800" spc="-1" strike="noStrike">
                <a:solidFill>
                  <a:srgbClr val="336633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PG CAPITAL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 of AUD1,000 capital subsidy to consumers for purchase of new dedicated or dual-fuel LPG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or 3 year period, July 2011-Jul;y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GAR ASSISTANC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75 million for diversification into value-adding and alternative products such as 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4:38:45Z</dcterms:created>
  <dc:creator>JMccalljohn</dc:creator>
  <dc:description/>
  <dc:language>en-US</dc:language>
  <cp:lastModifiedBy>XEROX</cp:lastModifiedBy>
  <dcterms:modified xsi:type="dcterms:W3CDTF">2005-05-16T05:01:32Z</dcterms:modified>
  <cp:revision>53</cp:revision>
  <dc:subject/>
  <dc:title>Slide 1</dc:title>
</cp:coreProperties>
</file>