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FF6-568A-43D2-8054-D263C080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C75-66E2-4066-B2D1-891724C5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6CB-D7D1-40A6-90E7-3449359C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251-D4EE-4D31-A718-CA70BEBF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AB8A-BFB1-41EF-A4E7-DB7F762C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18F6-1485-45D4-80A3-8F4A9065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4334-0216-45EE-A03A-117CF6C2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2944-5769-457F-B22C-0E2D7C40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B0E3-39C7-4877-9135-7386C808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30ED-4310-473C-A73D-CD8CC77D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4167-0CF4-4D1E-BEE4-89A1E0BF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E2F-519E-4A35-B121-C6582A99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639B-8A29-4A56-A5B9-4EB03F66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DD5C-C128-4532-9C0F-7E0EA7A1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4C65-8E35-47CE-B3A5-D34A215B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6549-F2AD-46BC-BA86-65EAD942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B6D6-805C-4E07-9235-6C2F0C1C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579-45CD-430D-A305-6B89C2F2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1E6-30F0-4162-B8F1-6F041052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B3D-8E89-49E4-8FD9-DA96C8BB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BA3-920B-43CF-957A-C0CFF418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962-BF5A-4770-BFB7-C89F6315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1EA-1163-46B1-87D4-C4D73D96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83D-63FD-4604-8AB1-2098346B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f-ZA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f-ZA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f-Z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B9A4-CBDA-4EE1-997B-47B15BD0680B}" type="slidenum">
              <a:rPr b="1" lang="af-Z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f-Z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f-ZA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f-Z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0253-8E11-4AC3-835B-8753916451C3}" type="slidenum">
              <a:rPr b="1" lang="af-Z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92504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MS PGothic"/>
              </a:rPr>
              <a:t>APEC New and Renewable Energy Technologies Expert Group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MS PGothic"/>
              </a:rPr>
              <a:t>Twenty-Third Meeting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MS PGothic"/>
              </a:rPr>
              <a:t>10-13 November 2004</a:t>
            </a:r>
            <a:br>
              <a:rPr sz="32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94400" y="3832200"/>
            <a:ext cx="72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ember Economy Presentation - Malays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18640" y="7632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laysi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19521"/>
          <a:stretch/>
        </p:blipFill>
        <p:spPr>
          <a:xfrm>
            <a:off x="609480" y="731880"/>
            <a:ext cx="82296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onomy Presentation - Malay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4100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rce: EDMC, IEEJ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2668680"/>
            <a:ext cx="85341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onomy Presentation - Malay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2324160"/>
            <a:ext cx="74674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onomy Presentation - Malay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icity demand grow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.8% p.a in 200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ected growth rate - 7.2% p.a. to 200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alled capacity – 19,254 M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alaysia – Rural Infrastructure Devt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allation of PV systems to provide electricity to rural communities in Peninsular Malaysia, Sabah and Sarawa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tal Capacity – 2.2 MW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US39 mill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rox. 11,600 installations – rural houses (longhouses), rural health centres, community halls/centres, rural churches, mosques, et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ject financed fully by Malaysian gover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ystem supplied by BP Solar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alaysia – Rural Infrastructure Devt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22636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alaysia – NRE Development Initiativ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PS – 5% or 600 MW by 200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EP – Small Renewable Energy Pow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unched in May 200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pacity of 10MW or below utilising renewable resources esp. biomas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3 applications had been approved by end of 200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tal new capacity approved 284 M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urrently 2 such facilities have concluded PPA with Tenaga Nasional Berhad (TNB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act period - 21 years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iff – 16.5 -16.7 sen/kW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urce – biomass and landfill g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4:00:36Z</dcterms:created>
  <dc:creator>JSR</dc:creator>
  <dc:description/>
  <dc:language>en-US</dc:language>
  <cp:lastModifiedBy>JSR</cp:lastModifiedBy>
  <dcterms:modified xsi:type="dcterms:W3CDTF">2004-11-10T19:57:17Z</dcterms:modified>
  <cp:revision>6</cp:revision>
  <dc:subject/>
  <dc:title>APEC New and Renewable Energy Technologies Expert Group  Twenty-Third Meeting  10-13 November 2004 </dc:title>
</cp:coreProperties>
</file>