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74310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60280" y="-360"/>
            <a:ext cx="295308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7520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9360" y="4722840"/>
            <a:ext cx="499428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51800"/>
            <a:ext cx="295272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60280" y="9451800"/>
            <a:ext cx="295308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CBBC31-F35A-439F-88BC-DBB89B58228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1160" y="4722840"/>
            <a:ext cx="4991040" cy="447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かけて、エネルギー使用合理化に資する技術開発のために、「高性能工業炉の開発」プロジェクトを実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当初目標であった、省エネルギー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3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ダウンサイジン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0%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Ox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大幅低減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平成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年度には、事業規模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2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億円でフィールドテスト事業を実施し、加熱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6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熱処理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84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溶解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、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67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導入して、原油換算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万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kl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／年の省エネルギーを達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その後、エネルギー使用合理化支援事業を実施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件を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事業の波及効果として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150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基以上が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の支援なしで実用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このように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Century"/>
              </a:rPr>
              <a:t>NEDO</a:t>
            </a:r>
            <a:r>
              <a:rPr b="0" lang="ja-JP" sz="1200" spc="-1" strike="noStrike">
                <a:solidFill>
                  <a:srgbClr val="000000"/>
                </a:solidFill>
                <a:latin typeface="Century"/>
                <a:ea typeface="ＭＳ 明朝"/>
              </a:rPr>
              <a:t>は、高性能工業炉の開発及び日本国内への導入普及に大きく貢献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03A6-188F-4D7E-A38A-63088D2D9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240" y="43063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5485-5F0B-4BAD-9C10-583B2DC4B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356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DD84-DC51-4573-A96F-CF39D48A3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600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0212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24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600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0212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D000-44DC-4FE7-B461-00F84F32D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0240" y="1366920"/>
            <a:ext cx="933444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933444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3840" y="439560"/>
            <a:ext cx="7338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240" y="1366920"/>
            <a:ext cx="933444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0FEE-EA86-4662-BD91-9B0332C08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356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0240" y="43063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356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600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02120" y="13669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024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600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02120" y="4306320"/>
            <a:ext cx="30052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933444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590D-0A90-41F9-A9F4-58483F12B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7A3F-70A3-4F41-8A2D-20F0F3072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40E6-04DA-44B5-A1CE-A89EE66BA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3840" y="439560"/>
            <a:ext cx="7338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EA08-C2BA-4E64-A2AE-FD9CBCDA7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446E-BE45-45FA-A736-14B9EE0F2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3560" y="43063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178A-38F1-4BBA-AF64-5A29D5744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24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3560" y="1366920"/>
            <a:ext cx="45550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240" y="4306320"/>
            <a:ext cx="933444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05CD-28DF-4168-AD21-AEA4E6CD5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7429680"/>
            <a:chOff x="0" y="0"/>
            <a:chExt cx="9906120" cy="74296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6120" cy="74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003%20(1)" descr=""/>
            <p:cNvPicPr/>
            <p:nvPr/>
          </p:nvPicPr>
          <p:blipFill>
            <a:blip r:embed="rId2"/>
            <a:stretch/>
          </p:blipFill>
          <p:spPr>
            <a:xfrm>
              <a:off x="8861400" y="263520"/>
              <a:ext cx="9270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3840" y="439560"/>
            <a:ext cx="7338960" cy="3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9161280" y="7045200"/>
            <a:ext cx="5778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ja-JP" sz="900" spc="-1" strike="noStrike">
                <a:solidFill>
                  <a:srgbClr val="000000"/>
                </a:solidFill>
                <a:latin typeface="Arial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B6320FB-CE50-4F20-AABB-E699CC42526B}" type="slidenum">
              <a:rPr b="0" lang="ja-JP" sz="900" spc="-1" strike="noStrike">
                <a:solidFill>
                  <a:srgbClr val="000000"/>
                </a:solidFill>
                <a:latin typeface="Arial"/>
                <a:ea typeface="ＭＳ Ｐ明朝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90240" y="1366920"/>
            <a:ext cx="933444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0"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92240" indent="-19224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906120" cy="7429680"/>
            <a:chOff x="0" y="0"/>
            <a:chExt cx="9906120" cy="742968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906120" cy="74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002" descr=""/>
            <p:cNvPicPr/>
            <p:nvPr/>
          </p:nvPicPr>
          <p:blipFill>
            <a:blip r:embed="rId2"/>
            <a:stretch/>
          </p:blipFill>
          <p:spPr>
            <a:xfrm>
              <a:off x="3271680" y="257040"/>
              <a:ext cx="6632640" cy="539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2481120"/>
            <a:ext cx="8748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" name="005_" descr=""/>
          <p:cNvPicPr/>
          <p:nvPr/>
        </p:nvPicPr>
        <p:blipFill>
          <a:blip r:embed="rId3"/>
          <a:stretch/>
        </p:blipFill>
        <p:spPr>
          <a:xfrm>
            <a:off x="701640" y="6994440"/>
            <a:ext cx="6200640" cy="23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738440"/>
            <a:ext cx="8916120" cy="430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0" algn="ctr"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757080" algn="ctr">
              <a:spcBef>
                <a:spcPts val="3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143000" algn="ctr">
              <a:spcBef>
                <a:spcPts val="3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525680" algn="ctr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52568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52568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9048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明朝"/>
              </a:rPr>
              <a:t>Economy Specific Research and Introduction of Successful Results of New / Renewable Energy Technology Development and Demonstration</a:t>
            </a:r>
            <a:endParaRPr b="0" lang="en-US" sz="2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668920"/>
            <a:ext cx="226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oru Usa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5960" y="5791320"/>
            <a:ext cx="3430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national Projects Depar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683160"/>
            <a:ext cx="8229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Group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nd Renewable Energy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13 Nov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church,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361800" y="1720800"/>
          <a:ext cx="931572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720800"/>
                    <a:ext cx="931572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-18720" y="1839960"/>
            <a:ext cx="5209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Installation price of PV power generation systems for residential us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mln yen/kW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15880" y="1079640"/>
            <a:ext cx="7473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993→200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installation cost of inverters and other equipment de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11280" y="1455840"/>
            <a:ext cx="77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993→200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general system installation price decreased more than 8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512720" y="2406600"/>
            <a:ext cx="33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verters and peripheral equi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511280" y="3549600"/>
            <a:ext cx="714240" cy="19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09800" y="76212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stallation price reduction of PV power generation systems for residential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47960" y="32716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Modul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89120" y="2997360"/>
            <a:ext cx="26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Standard construction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479600" y="3297240"/>
            <a:ext cx="650880" cy="13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484280" y="2706840"/>
            <a:ext cx="463680" cy="56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0760" y="197496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3.67mln ye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54280" y="4475160"/>
            <a:ext cx="163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1.43mln ye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4821120"/>
            <a:ext cx="161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1.17mln ye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89400" y="4984920"/>
            <a:ext cx="1521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1.03mln ye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08720" y="5011560"/>
            <a:ext cx="1197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1.02ml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46800" y="5054760"/>
            <a:ext cx="1197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0.96ml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23240" y="5203800"/>
            <a:ext cx="1197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0.87ml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94040" y="3911760"/>
            <a:ext cx="149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2mln ye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885080" y="5289480"/>
            <a:ext cx="1197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0.79ml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34320" y="5334120"/>
            <a:ext cx="103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Ｐゴシック"/>
              </a:rPr>
              <a:t>0.73mln/k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10080" y="6826320"/>
            <a:ext cx="59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sources Total System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20840" y="1574640"/>
            <a:ext cx="241200" cy="198720"/>
          </a:xfrm>
          <a:prstGeom prst="rightArrow">
            <a:avLst>
              <a:gd name="adj1" fmla="val 50407"/>
              <a:gd name="adj2" fmla="val 5430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409680"/>
            <a:ext cx="849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&amp;D Activities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stem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06120" y="1266840"/>
            <a:ext cx="1821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ore than 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D51A-DB50-4D8A-9493-448082F16C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221440" y="4527720"/>
            <a:ext cx="3324240" cy="274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96600" y="4653000"/>
            <a:ext cx="130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87920" y="3384720"/>
            <a:ext cx="3705120" cy="274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57640" y="2684520"/>
            <a:ext cx="4038480" cy="295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70320" y="4527720"/>
            <a:ext cx="3962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Basic Guidelines for New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72080" y="3411360"/>
            <a:ext cx="43686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 for public ut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52960" y="2681280"/>
            <a:ext cx="46972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Electricity Utilities Industry Law revi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07200" y="5719680"/>
            <a:ext cx="245592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45280" y="5689440"/>
            <a:ext cx="2887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Long-term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52840" y="5818320"/>
            <a:ext cx="239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upply/Demand Outl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0" y="5319720"/>
            <a:ext cx="245592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21440" y="4097160"/>
            <a:ext cx="317160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5280" y="5276880"/>
            <a:ext cx="28875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57720" y="4108320"/>
            <a:ext cx="32353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stallation Support Activ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8480" y="934920"/>
            <a:ext cx="0" cy="6153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79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478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16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86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844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224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924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60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30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304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67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7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5764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0080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62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4540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008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0694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376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6076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90000" y="2567160"/>
            <a:ext cx="0" cy="4030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685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401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117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07040" y="2336760"/>
            <a:ext cx="7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0480" y="2336760"/>
            <a:ext cx="7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912080" y="2336760"/>
            <a:ext cx="64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16200" y="266688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54360" y="4597560"/>
            <a:ext cx="1504800" cy="5331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01720" y="4552920"/>
            <a:ext cx="184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Install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16400" y="2709720"/>
            <a:ext cx="160200" cy="3522960"/>
          </a:xfrm>
          <a:custGeom>
            <a:avLst/>
            <a:gdLst>
              <a:gd name="textAreaLeft" fmla="*/ 102240 w 160200"/>
              <a:gd name="textAreaRight" fmla="*/ 160560 w 160200"/>
              <a:gd name="textAreaTop" fmla="*/ 91800 h 3522960"/>
              <a:gd name="textAreaBottom" fmla="*/ 3431160 h 352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205"/>
                </a:lnTo>
                <a:cubicBezTo>
                  <a:pt x="10800" y="12105"/>
                  <a:pt x="5400" y="13005"/>
                  <a:pt x="0" y="13005"/>
                </a:cubicBezTo>
                <a:cubicBezTo>
                  <a:pt x="5400" y="13005"/>
                  <a:pt x="10800" y="13905"/>
                  <a:pt x="10800" y="148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0640" y="6118200"/>
            <a:ext cx="923760" cy="273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40440" y="4946760"/>
            <a:ext cx="2158920" cy="272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61240" y="6111720"/>
            <a:ext cx="325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Renewable Portfolio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61240" y="4908600"/>
            <a:ext cx="317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Law concerning Promotion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52960" y="2997360"/>
            <a:ext cx="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76640" y="3692520"/>
            <a:ext cx="3569040" cy="272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91160" y="3019320"/>
            <a:ext cx="3504960" cy="273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51200" y="3016080"/>
            <a:ext cx="39308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urchase of surplus PV generated power b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37120" y="33433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46720" y="3657600"/>
            <a:ext cx="6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240" y="40575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10160" y="60580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3240" y="4527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13400" y="4896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64320" y="52754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73680" y="5670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25880" y="3699000"/>
            <a:ext cx="4294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Grid Connection Guidelines inclu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65160" y="227340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47600" y="3160800"/>
            <a:ext cx="18511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electric compan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29840" y="3836880"/>
            <a:ext cx="16923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adverse curr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23880" y="4262400"/>
            <a:ext cx="216504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residential consum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33240" y="5057640"/>
            <a:ext cx="22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Use of  New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20440" y="5388120"/>
            <a:ext cx="211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or industrial fac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65160" y="1765440"/>
            <a:ext cx="79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stablishing various guidelines, laws and regu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71640" y="1487520"/>
            <a:ext cx="64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tting national targets of PV power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81000" y="1211400"/>
            <a:ext cx="63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ubsiding PV system instal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838080"/>
            <a:ext cx="9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ffective installation support activities are a systematic combination of following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procedur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120" y="3755880"/>
            <a:ext cx="2327040" cy="295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5000" y="2995560"/>
            <a:ext cx="254160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355920"/>
            <a:ext cx="254448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16120" y="36831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Guidelines, law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0000" y="33163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ational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6320" y="29354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ubsid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1040" y="1262160"/>
            <a:ext cx="126720" cy="828720"/>
          </a:xfrm>
          <a:custGeom>
            <a:avLst/>
            <a:gdLst>
              <a:gd name="textAreaLeft" fmla="*/ 81000 w 126720"/>
              <a:gd name="textAreaRight" fmla="*/ 127080 w 126720"/>
              <a:gd name="textAreaTop" fmla="*/ 21600 h 828720"/>
              <a:gd name="textAreaBottom" fmla="*/ 80712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20320" y="387504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6C27-3E6C-4FB4-94FF-DAB23D651D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568440" y="1720800"/>
          <a:ext cx="9109080" cy="505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720800"/>
                    <a:ext cx="9109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1428840" y="1573200"/>
            <a:ext cx="241200" cy="198360"/>
          </a:xfrm>
          <a:prstGeom prst="rightArrow">
            <a:avLst>
              <a:gd name="adj1" fmla="val 50407"/>
              <a:gd name="adj2" fmla="val 54403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32080" y="1028880"/>
            <a:ext cx="7616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stallation price reduced through installation support activities in ad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45320" y="682632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stallation Support Activiti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ubsidy System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43000" y="72540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stallation price reduction of PV power generation systems for residential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46280" y="1461960"/>
            <a:ext cx="77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993→200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esidential use system installation cost decreased more than 8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0800000">
            <a:off x="0" y="1839960"/>
            <a:ext cx="5641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Installation price of PV power generation systems for residential us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mln yen/kW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99320" y="120816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o the favorable results of R&amp;D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4F8C-126D-4B26-BADC-D925A6ED4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566640" y="1720800"/>
          <a:ext cx="9110880" cy="505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20800"/>
                    <a:ext cx="91108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955800"/>
            <a:ext cx="8140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ubsidy rate covering up to one-half during initial expensive price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460600" y="3201840"/>
            <a:ext cx="928800" cy="177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5200" y="28702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Subs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08440" y="206676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Effective installation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467080" y="2406600"/>
            <a:ext cx="868320" cy="106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46040" y="1382760"/>
            <a:ext cx="6613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s installation cost decreases, subsidy rates are scaled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1050840"/>
            <a:ext cx="74880" cy="777960"/>
          </a:xfrm>
          <a:custGeom>
            <a:avLst/>
            <a:gdLst>
              <a:gd name="textAreaLeft" fmla="*/ 47880 w 74880"/>
              <a:gd name="textAreaRight" fmla="*/ 75240 w 74880"/>
              <a:gd name="textAreaTop" fmla="*/ 20160 h 777960"/>
              <a:gd name="textAreaBottom" fmla="*/ 757800 h 77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0" y="1839960"/>
            <a:ext cx="5641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Installation price of PV power generation systems for residential use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mln yen/kW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stallation Support Activiti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ubsidy System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5200" y="677880"/>
            <a:ext cx="89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ffective installation price reduction of PV power generation systems for residential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45320" y="682632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66760" y="1155600"/>
            <a:ext cx="501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ctively promote creation of initial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04840" y="1587600"/>
            <a:ext cx="8512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ubsidy rates are scaled back, creating a transition to an unsubsidized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1623-9279-4C75-8A27-62774A469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74760" y="1700280"/>
          <a:ext cx="9316800" cy="51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700280"/>
                    <a:ext cx="931680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ults of R&amp;D/installation support activities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nual Installation Volume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-4320" y="1700280"/>
            <a:ext cx="72900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nnual growth of PV power generation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mln kW/y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82680" y="1295280"/>
            <a:ext cx="761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nnual installation volume of PV power generation system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990720"/>
            <a:ext cx="70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V power generation system annual installation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41480" y="6838920"/>
            <a:ext cx="855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urrent status and outlook of the PV power generation industry, 2003 edition (NE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46720" y="2651040"/>
            <a:ext cx="290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Public/industrial facilities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subsidized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86200" y="353376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General marke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not subsidized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67360" y="3914640"/>
            <a:ext cx="179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Residential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subsidized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7800" y="4495680"/>
            <a:ext cx="1111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69080" y="3862440"/>
            <a:ext cx="143172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157800" y="3241800"/>
            <a:ext cx="115740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8240" y="1527120"/>
            <a:ext cx="4993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residential volume in particular, is 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A112-62D5-4015-98CE-9C55DD9917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422280" y="1666800"/>
          <a:ext cx="9374040" cy="52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666800"/>
                    <a:ext cx="937404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0800000">
            <a:off x="-11160" y="1801440"/>
            <a:ext cx="67356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umulative PV power generation installation volume in 2003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W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359000" y="13604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Japan’s cumulative installation volume ranks first in the world: approx. 860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52360" y="1055520"/>
            <a:ext cx="70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umulative PV power generation installed capacity 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59600" y="6815160"/>
            <a:ext cx="33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IEA-PVPS T1-13: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830920" y="2514600"/>
            <a:ext cx="2144520" cy="3115800"/>
            <a:chOff x="5830920" y="2514600"/>
            <a:chExt cx="2144520" cy="3115800"/>
          </a:xfrm>
        </p:grpSpPr>
        <p:sp>
          <p:nvSpPr>
            <p:cNvPr id="706" name=""/>
            <p:cNvSpPr/>
            <p:nvPr/>
          </p:nvSpPr>
          <p:spPr>
            <a:xfrm>
              <a:off x="5830920" y="2514600"/>
              <a:ext cx="2144520" cy="1752480"/>
            </a:xfrm>
            <a:prstGeom prst="roundRect">
              <a:avLst>
                <a:gd name="adj" fmla="val 9421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95800" y="2616120"/>
              <a:ext cx="190368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ＭＳ Ｐゴシック"/>
                </a:rPr>
                <a:t>Japan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ゴシック"/>
                </a:rPr>
                <a:t>      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ＭＳ Ｐゴシック"/>
                </a:rPr>
                <a:t>860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Germany  410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USA        275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India         83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China        58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・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Holland      46M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ults of R&amp;D/installation support activities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umulative Installed Capacity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E39D-017F-49BC-A603-3FBBD733B0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351000" y="1663560"/>
          <a:ext cx="955512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663560"/>
                    <a:ext cx="95551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544680" y="2238480"/>
          <a:ext cx="6313320" cy="350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680" y="2238480"/>
                    <a:ext cx="63133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0800000">
            <a:off x="-3240" y="1904760"/>
            <a:ext cx="72900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nnual solar cell production volume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W/y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90720" y="89388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nnual solar cell production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3600" y="119700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Japan’s production volume has rapidly increased since 1998: 331MW 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21000" y="144936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ccounted for approx. 45% of the world production volume 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457280" y="1243080"/>
            <a:ext cx="74520" cy="531720"/>
          </a:xfrm>
          <a:custGeom>
            <a:avLst/>
            <a:gdLst>
              <a:gd name="textAreaLeft" fmla="*/ 47520 w 74520"/>
              <a:gd name="textAreaRight" fmla="*/ 74880 w 74520"/>
              <a:gd name="textAreaTop" fmla="*/ 13680 h 531720"/>
              <a:gd name="textAreaBottom" fmla="*/ 518040 h 53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78640" y="68324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V n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75760" y="5589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413920" y="40514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400960" y="47116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432640" y="315108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24360" y="36590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17640" y="449568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73400" y="339264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U.S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32120" y="269388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93920" y="556416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ults of R&amp;D/installation support activities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duction Volume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AD81-1084-40CD-933E-0310544B3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14520" y="4813200"/>
            <a:ext cx="2116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480" y="825480"/>
            <a:ext cx="233856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7640" y="8380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9720" y="483876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Futur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20600" y="576576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revents unsubsidized market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51240" y="4255920"/>
            <a:ext cx="56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stablishment of laws, guidelines and regu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444760" y="3987720"/>
            <a:ext cx="47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reation of national introduction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51240" y="3710160"/>
            <a:ext cx="37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Establishment of subsid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770280"/>
            <a:ext cx="128520" cy="770040"/>
          </a:xfrm>
          <a:custGeom>
            <a:avLst/>
            <a:gdLst>
              <a:gd name="textAreaLeft" fmla="*/ 82080 w 128520"/>
              <a:gd name="textAreaRight" fmla="*/ 128880 w 12852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41480" y="1333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Renewable energies with less advantageous economic asp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22520" y="1739880"/>
            <a:ext cx="83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ombination of R&amp;D and installation support activities is effec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27240" y="2152800"/>
            <a:ext cx="82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Government’s involvement is important at the initial stage of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143000" y="1812960"/>
            <a:ext cx="123840" cy="593640"/>
          </a:xfrm>
          <a:custGeom>
            <a:avLst/>
            <a:gdLst>
              <a:gd name="textAreaLeft" fmla="*/ 79200 w 123840"/>
              <a:gd name="textAreaRight" fmla="*/ 124200 w 12384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74880" y="2590920"/>
            <a:ext cx="7522920" cy="2054160"/>
          </a:xfrm>
          <a:prstGeom prst="roundRect">
            <a:avLst>
              <a:gd name="adj" fmla="val 6792"/>
            </a:avLst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57200" y="2635200"/>
            <a:ext cx="438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Government’s involvement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05040" y="6397560"/>
            <a:ext cx="62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METI and NEDO continue active implement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5400000">
            <a:off x="4393080" y="6302880"/>
            <a:ext cx="241560" cy="198720"/>
          </a:xfrm>
          <a:prstGeom prst="rightArrow">
            <a:avLst>
              <a:gd name="adj1" fmla="val 50407"/>
              <a:gd name="adj2" fmla="val 54386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9960" y="5495760"/>
            <a:ext cx="7583400" cy="696960"/>
          </a:xfrm>
          <a:prstGeom prst="roundRect">
            <a:avLst>
              <a:gd name="adj" fmla="val 6792"/>
            </a:avLst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196040" y="2851200"/>
            <a:ext cx="1173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87800" y="28130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32200" y="333540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reation and expansion of initial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54080" y="2801880"/>
            <a:ext cx="28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crease of product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3057200">
            <a:off x="4168080" y="3190680"/>
            <a:ext cx="245880" cy="179280"/>
          </a:xfrm>
          <a:prstGeom prst="rightArrow">
            <a:avLst>
              <a:gd name="adj1" fmla="val 50000"/>
              <a:gd name="adj2" fmla="val 3428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34000" y="2917800"/>
            <a:ext cx="245880" cy="179280"/>
          </a:xfrm>
          <a:prstGeom prst="rightArrow">
            <a:avLst>
              <a:gd name="adj1" fmla="val 50000"/>
              <a:gd name="adj2" fmla="val 3428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 rot="8542800">
            <a:off x="5324040" y="3191040"/>
            <a:ext cx="246240" cy="179280"/>
          </a:xfrm>
          <a:prstGeom prst="rightArrow">
            <a:avLst>
              <a:gd name="adj1" fmla="val 50000"/>
              <a:gd name="adj2" fmla="val 3433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03640" y="3549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6543360" y="3030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54080" y="3267000"/>
            <a:ext cx="1390680" cy="47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Installat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22360" y="195588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o promote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050840" y="548640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e higher cost relative to conventional energy sources still pers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49440" y="6689880"/>
            <a:ext cx="60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R&amp;D and installation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BE31-3034-4558-9B15-48F692982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33560" y="350028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61FB-F6F1-4C34-BACE-2912C5CDE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4280" y="673200"/>
            <a:ext cx="101772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40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tline of NEDO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0120" y="711360"/>
            <a:ext cx="9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120" y="1216080"/>
            <a:ext cx="90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Established for new energy/energy conservation technology development unde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120" y="1803240"/>
            <a:ext cx="9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88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Commenced R&amp;D on industrial technologies (nanotechnology/biotechn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0120" y="2171880"/>
            <a:ext cx="93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Commenced R&amp;D on environmental technologies (recycling techn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0120" y="3174840"/>
            <a:ext cx="64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resent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 core organization of Japan’s 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0120" y="2571840"/>
            <a:ext cx="93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6816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Commenced installation support activities for new energy/energy con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657600"/>
            <a:ext cx="19238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000" y="3705120"/>
            <a:ext cx="19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Y2004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4520" y="4711680"/>
            <a:ext cx="58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ndustrial/environment technology development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920" y="5241960"/>
            <a:ext cx="63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w energy/energy conservation technology development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5807160"/>
            <a:ext cx="5811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w energy/energy conservation installation support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6465960"/>
            <a:ext cx="3173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lcohol manufacturing/sales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6320" y="6934320"/>
            <a:ext cx="13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thers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28760" y="3021120"/>
          <a:ext cx="760104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3021120"/>
                    <a:ext cx="760104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575480" y="4321080"/>
            <a:ext cx="132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ndustrial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environment technolog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61040" y="5619600"/>
            <a:ext cx="154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w energy/energy conservation technology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156280"/>
            <a:ext cx="168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w energy/energy conservation installat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49760" y="419112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lcohol manufacturing/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4160" y="3540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9880" y="4197240"/>
            <a:ext cx="29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Total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：　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2.83billion US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2360" y="495288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.24billion US$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4%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87840" y="550548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90million US$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87840" y="6083280"/>
            <a:ext cx="2122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560million US$(2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5240" y="6470640"/>
            <a:ext cx="21222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530million US$(19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82080" y="6966000"/>
            <a:ext cx="20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20million US$(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3600" y="1474920"/>
            <a:ext cx="577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jurisdiction of the Ministry of Economy, Trade and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8160" y="2820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F4C6-1E85-4F02-9FD0-A7C74AFF4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42720"/>
            <a:ext cx="8140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704960"/>
            <a:ext cx="72342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Significance of Renewable Energy Introduction in Ja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09680" y="2354400"/>
            <a:ext cx="79945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Outline of Government Policies and Meas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963880"/>
            <a:ext cx="64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Research and Development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37080"/>
            <a:ext cx="587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Installation Support Activi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4284720"/>
            <a:ext cx="839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Results of R&amp;D/installation support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4932360"/>
            <a:ext cx="435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1" lang="ja-JP" sz="2200" spc="-1" strike="noStrike">
                <a:solidFill>
                  <a:srgbClr val="000000"/>
                </a:solidFill>
                <a:latin typeface="ＭＳ Ｐゴシック"/>
              </a:rPr>
              <a:t>Lessons Lea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841E-33EB-48C7-87F1-851C565D8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4520" y="3057480"/>
            <a:ext cx="30556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88200">
            <a:off x="786960" y="4749480"/>
            <a:ext cx="8453520" cy="660240"/>
          </a:xfrm>
          <a:prstGeom prst="irregularSeal2">
            <a:avLst/>
          </a:prstGeom>
          <a:gradFill rotWithShape="0">
            <a:gsLst>
              <a:gs pos="0">
                <a:srgbClr val="ccccff"/>
              </a:gs>
              <a:gs pos="100000">
                <a:srgbClr val="eaea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3560" y="4827600"/>
            <a:ext cx="79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Further introduction of renewable energies is a high priority in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95280"/>
            <a:ext cx="280692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gnificance of Renewable Energy Introduction in Japa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0080" y="21985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9960" y="2124000"/>
            <a:ext cx="286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opulation  in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397160"/>
            <a:ext cx="277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urrent global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280" y="3095640"/>
            <a:ext cx="31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urrent scenario in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9960" y="2432160"/>
            <a:ext cx="23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5760" y="2163600"/>
            <a:ext cx="296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Increase of fossil fuel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0000" y="2057400"/>
            <a:ext cx="29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epletion of fossil 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362320"/>
            <a:ext cx="29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Global w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0080" y="2146320"/>
            <a:ext cx="88920" cy="623880"/>
          </a:xfrm>
          <a:custGeom>
            <a:avLst/>
            <a:gdLst>
              <a:gd name="textAreaLeft" fmla="*/ 0 w 88920"/>
              <a:gd name="textAreaRight" fmla="*/ 32040 w 88920"/>
              <a:gd name="textAreaTop" fmla="*/ 16200 h 623880"/>
              <a:gd name="textAreaBottom" fmla="*/ 6076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67520" y="22129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450840" y="2108160"/>
            <a:ext cx="88920" cy="623880"/>
          </a:xfrm>
          <a:custGeom>
            <a:avLst/>
            <a:gdLst>
              <a:gd name="textAreaLeft" fmla="*/ 0 w 88920"/>
              <a:gd name="textAreaRight" fmla="*/ 32040 w 88920"/>
              <a:gd name="textAreaTop" fmla="*/ 16200 h 623880"/>
              <a:gd name="textAreaBottom" fmla="*/ 6076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39960" y="3743280"/>
            <a:ext cx="84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Almost 80% of Japan’s energy supply is impo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7000" y="4124160"/>
            <a:ext cx="74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ommitment to reducing GHG to 6% below the 1990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514840"/>
            <a:ext cx="81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ccessful result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ystematic promotion of the introduction and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6400" y="608328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olar cell production / cumulative inst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351960" y="6141960"/>
            <a:ext cx="88920" cy="623880"/>
          </a:xfrm>
          <a:custGeom>
            <a:avLst/>
            <a:gdLst>
              <a:gd name="textAreaLeft" fmla="*/ 0 w 88920"/>
              <a:gd name="textAreaRight" fmla="*/ 32040 w 88920"/>
              <a:gd name="textAreaTop" fmla="*/ 16200 h 623880"/>
              <a:gd name="textAreaBottom" fmla="*/ 607680 h 6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59200" y="6188040"/>
            <a:ext cx="304560" cy="380880"/>
          </a:xfrm>
          <a:custGeom>
            <a:avLst/>
            <a:gdLst>
              <a:gd name="textAreaLeft" fmla="*/ 0 w 304560"/>
              <a:gd name="textAreaRight" fmla="*/ 304920 w 30456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4245840" y="4593240"/>
            <a:ext cx="241200" cy="198720"/>
          </a:xfrm>
          <a:prstGeom prst="rightArrow">
            <a:avLst>
              <a:gd name="adj1" fmla="val 50407"/>
              <a:gd name="adj2" fmla="val 5430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8840" y="2351160"/>
            <a:ext cx="241200" cy="198360"/>
          </a:xfrm>
          <a:prstGeom prst="rightArrow">
            <a:avLst>
              <a:gd name="adj1" fmla="val 50407"/>
              <a:gd name="adj2" fmla="val 54403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35840" y="2333520"/>
            <a:ext cx="241200" cy="198720"/>
          </a:xfrm>
          <a:prstGeom prst="rightArrow">
            <a:avLst>
              <a:gd name="adj1" fmla="val 50407"/>
              <a:gd name="adj2" fmla="val 54305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4040" y="5791320"/>
            <a:ext cx="5779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issemination of PV power gener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30400" y="5448240"/>
            <a:ext cx="7467480" cy="141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9040" y="6330960"/>
            <a:ext cx="53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apacity in 2003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ranked first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EBC4-7686-4E24-A61A-7593DC804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86080" y="3759120"/>
            <a:ext cx="14238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N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tline of Government Policies and Measu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" y="2535120"/>
            <a:ext cx="0" cy="478656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934920"/>
            <a:ext cx="0" cy="6153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478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6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86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5424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224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24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60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30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884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7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70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34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4344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8660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26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120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0084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694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376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966960"/>
            <a:ext cx="0" cy="6134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75800" y="2567160"/>
            <a:ext cx="0" cy="478620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543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259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97560" y="2336760"/>
            <a:ext cx="75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2840" y="2336760"/>
            <a:ext cx="7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26280" y="2336760"/>
            <a:ext cx="7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597880" y="2336760"/>
            <a:ext cx="64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44320" y="3139920"/>
            <a:ext cx="8461080" cy="14400"/>
          </a:xfrm>
          <a:prstGeom prst="line">
            <a:avLst/>
          </a:prstGeom>
          <a:ln w="15552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157480" y="3301560"/>
            <a:ext cx="0" cy="507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960" y="3022560"/>
            <a:ext cx="8305920" cy="274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2971800"/>
            <a:ext cx="30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Sunshin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29240" y="3036960"/>
            <a:ext cx="246240" cy="24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5120" y="2981160"/>
            <a:ext cx="3262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New Sunshin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3440" y="321300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9040" y="3213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02000" y="347976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280" y="3030480"/>
            <a:ext cx="246240" cy="24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590920"/>
            <a:ext cx="860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720" y="2552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0160" y="5410080"/>
            <a:ext cx="1504800" cy="5335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13080" y="5365800"/>
            <a:ext cx="184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Install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02200" y="3522600"/>
            <a:ext cx="160200" cy="3522600"/>
          </a:xfrm>
          <a:custGeom>
            <a:avLst/>
            <a:gdLst>
              <a:gd name="textAreaLeft" fmla="*/ 102240 w 160200"/>
              <a:gd name="textAreaRight" fmla="*/ 160560 w 160200"/>
              <a:gd name="textAreaTop" fmla="*/ 91800 h 3522600"/>
              <a:gd name="textAreaBottom" fmla="*/ 3430800 h 35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205"/>
                </a:lnTo>
                <a:cubicBezTo>
                  <a:pt x="10800" y="12105"/>
                  <a:pt x="5400" y="13005"/>
                  <a:pt x="0" y="13005"/>
                </a:cubicBezTo>
                <a:cubicBezTo>
                  <a:pt x="5400" y="13005"/>
                  <a:pt x="10800" y="13905"/>
                  <a:pt x="10800" y="148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6440" y="6892920"/>
            <a:ext cx="923760" cy="272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93000" y="6532560"/>
            <a:ext cx="245592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93000" y="6132600"/>
            <a:ext cx="245592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26240" y="5759280"/>
            <a:ext cx="2158920" cy="273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43440" y="3497400"/>
            <a:ext cx="4038480" cy="295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47040" y="6886440"/>
            <a:ext cx="325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Renewable Portfolio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1080" y="6502320"/>
            <a:ext cx="2887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Long-term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1080" y="6089760"/>
            <a:ext cx="28875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47040" y="5721480"/>
            <a:ext cx="317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Law concerning Promotion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38760" y="3494160"/>
            <a:ext cx="46972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Electricity Utilities Industry Law revi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38760" y="3809880"/>
            <a:ext cx="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62440" y="4505400"/>
            <a:ext cx="3569040" cy="272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07240" y="4910040"/>
            <a:ext cx="317160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76960" y="3832200"/>
            <a:ext cx="3504960" cy="273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7000" y="3828960"/>
            <a:ext cx="39308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urchase of surplus PV generated power b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73720" y="4197240"/>
            <a:ext cx="370512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22920" y="41562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32520" y="4470480"/>
            <a:ext cx="6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9040" y="48704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95960" y="68324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57880" y="4224240"/>
            <a:ext cx="43686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 for public ut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3520" y="4921200"/>
            <a:ext cx="32353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V installation subsidy system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07240" y="5340240"/>
            <a:ext cx="3324240" cy="274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69040" y="53402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5340240"/>
            <a:ext cx="3962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Basic Guidelines for New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9200" y="57085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50120" y="60879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59480" y="64832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11680" y="4511520"/>
            <a:ext cx="4294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Grid Connection Guidelines inclu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3320" y="1244520"/>
            <a:ext cx="1173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29240" y="12445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73280" y="17668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reation and expansion of initial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5520" y="1233360"/>
            <a:ext cx="28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crease of product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057200">
            <a:off x="3809880" y="1622520"/>
            <a:ext cx="246240" cy="179280"/>
          </a:xfrm>
          <a:prstGeom prst="rightArrow">
            <a:avLst>
              <a:gd name="adj1" fmla="val 50000"/>
              <a:gd name="adj2" fmla="val 3433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75080" y="1362240"/>
            <a:ext cx="246240" cy="179280"/>
          </a:xfrm>
          <a:prstGeom prst="rightArrow">
            <a:avLst>
              <a:gd name="adj1" fmla="val 50000"/>
              <a:gd name="adj2" fmla="val 3433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8542800">
            <a:off x="4965480" y="1621440"/>
            <a:ext cx="245880" cy="179280"/>
          </a:xfrm>
          <a:prstGeom prst="rightArrow">
            <a:avLst>
              <a:gd name="adj1" fmla="val 50000"/>
              <a:gd name="adj2" fmla="val 3428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44720" y="198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200640" y="1449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5680" y="2324160"/>
            <a:ext cx="892656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7160" y="723960"/>
            <a:ext cx="68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cus on two aspects: R&amp;D and installation support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6120" y="1143000"/>
            <a:ext cx="6765840" cy="1092240"/>
          </a:xfrm>
          <a:prstGeom prst="roundRect">
            <a:avLst>
              <a:gd name="adj" fmla="val 10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5320" y="4470480"/>
            <a:ext cx="231948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ommenced based on the fruitful results of the Sunshin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00320" y="3758400"/>
            <a:ext cx="666720" cy="746280"/>
          </a:xfrm>
          <a:custGeom>
            <a:avLst/>
            <a:gdLst>
              <a:gd name="textAreaLeft" fmla="*/ 0 w 666720"/>
              <a:gd name="textAreaRight" fmla="*/ 667080 w 666720"/>
              <a:gd name="textAreaTop" fmla="*/ -360 h 746280"/>
              <a:gd name="textAreaBottom" fmla="*/ 746280 h 746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81200" y="1647720"/>
            <a:ext cx="1305000" cy="66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Installat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3400" y="3973680"/>
            <a:ext cx="18511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electric compan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5640" y="4649760"/>
            <a:ext cx="16923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adverse curr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47840" y="5062680"/>
            <a:ext cx="216504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residential consum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82400" y="5465880"/>
            <a:ext cx="130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19040" y="5870520"/>
            <a:ext cx="22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e Use of  New 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06240" y="6200640"/>
            <a:ext cx="2113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or industrial fac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8640" y="6630840"/>
            <a:ext cx="239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upply/Demand Outl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D7C0-785C-40A6-9EB8-21F9B26EE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49200" y="1670040"/>
          <a:ext cx="955692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670040"/>
                    <a:ext cx="95569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662280" y="4829040"/>
            <a:ext cx="2357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stallation support (public facilities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621400"/>
            <a:ext cx="217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65680" y="4146480"/>
            <a:ext cx="2625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stallation suppor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dustrial facilities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6680" y="2774880"/>
            <a:ext cx="2822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stallation support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residential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73560" y="5162400"/>
            <a:ext cx="2984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27880" y="4449600"/>
            <a:ext cx="115092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76960" y="3111480"/>
            <a:ext cx="4050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-1080" y="2320560"/>
            <a:ext cx="45468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ETI budget 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US$/y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13200" y="46227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tarted in 1992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89240" y="393228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tarted in 1997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46720" y="25686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tarted in 1993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87400" y="6383160"/>
            <a:ext cx="4538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60840" y="6383160"/>
            <a:ext cx="1474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43400" y="605952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tageⅠ first-half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21360" y="6039000"/>
            <a:ext cx="20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tageⅠ second-half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920" y="5823000"/>
            <a:ext cx="27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e New Sunshin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30320" y="6059520"/>
            <a:ext cx="27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e Sunshine Project 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974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～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81288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METI’s budget for R&amp;D and PV power generation systems installation suppor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240" y="6388200"/>
            <a:ext cx="147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52680" y="113040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R&amp;D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pprox. 60 million US$ allocated since the 198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39720" y="142092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nstallation support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cused since the 1990s on initial market 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6360" y="1201680"/>
            <a:ext cx="74520" cy="531720"/>
          </a:xfrm>
          <a:custGeom>
            <a:avLst/>
            <a:gdLst>
              <a:gd name="textAreaLeft" fmla="*/ 47520 w 74520"/>
              <a:gd name="textAreaRight" fmla="*/ 74880 w 74520"/>
              <a:gd name="textAreaTop" fmla="*/ 13680 h 531720"/>
              <a:gd name="textAreaBottom" fmla="*/ 518040 h 53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27880" y="7091280"/>
            <a:ext cx="32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DO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93040" y="6858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US$=107J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409320"/>
            <a:ext cx="8491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utline of Government Policies and Measu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81FC-91C1-4563-9765-16FA2238C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14520" y="5181480"/>
            <a:ext cx="433836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600200"/>
            <a:ext cx="65786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8400" y="320040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Target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　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rystalline silicon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161280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olar cell manufacturing technolog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9720" y="520704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ＭＳ Ｐゴシック"/>
              </a:rPr>
              <a:t>System technolog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65160" y="2333520"/>
            <a:ext cx="864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Items for development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　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Low cost manufacturing process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8640" y="5689440"/>
            <a:ext cx="85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Targets</a:t>
            </a: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： 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inverters, peripheral equipment such as stora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97160" y="4460760"/>
            <a:ext cx="706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gnificant reduction of solar cell module manufactur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06360" y="6248520"/>
            <a:ext cx="700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Significant reduction of peripheral equipment installation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4262760" y="4288680"/>
            <a:ext cx="241560" cy="198360"/>
          </a:xfrm>
          <a:prstGeom prst="rightArrow">
            <a:avLst>
              <a:gd name="adj1" fmla="val 50407"/>
              <a:gd name="adj2" fmla="val 5448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4258080" y="6098400"/>
            <a:ext cx="241560" cy="198360"/>
          </a:xfrm>
          <a:prstGeom prst="rightArrow">
            <a:avLst>
              <a:gd name="adj1" fmla="val 50407"/>
              <a:gd name="adj2" fmla="val 5448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3480" y="91440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EDO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entral role in development of PV cell manufacturing technolog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8520" y="259380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Greater manufactur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80040" y="2873520"/>
            <a:ext cx="31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table material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91440" y="34480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n-film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24040" y="3714840"/>
            <a:ext cx="49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ompound semiconductor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42840" y="4753080"/>
            <a:ext cx="506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Particularly during the Sunshine Pro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409680"/>
            <a:ext cx="849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&amp;D Activities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ll Manufacturing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286000"/>
            <a:ext cx="8074080" cy="1887480"/>
          </a:xfrm>
          <a:prstGeom prst="roundRect">
            <a:avLst>
              <a:gd name="adj" fmla="val 6792"/>
            </a:avLst>
          </a:prstGeom>
          <a:noFill/>
          <a:ln cap="rnd" w="38160">
            <a:solidFill>
              <a:srgbClr val="99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3160" y="111132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evelopment of system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1A6C-4C84-4D22-AC19-8B7E3AFEB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360360" y="1668600"/>
          <a:ext cx="9545760" cy="52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668600"/>
                    <a:ext cx="954576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5160" y="6399360"/>
            <a:ext cx="68119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05160" y="2500200"/>
            <a:ext cx="681192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05160" y="2500200"/>
            <a:ext cx="442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0798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44492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81040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8504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175520" y="6335280"/>
            <a:ext cx="14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54244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69560" y="6399360"/>
            <a:ext cx="4752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40516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135400" y="6335280"/>
            <a:ext cx="180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851600" y="6335280"/>
            <a:ext cx="324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32000" y="4719600"/>
            <a:ext cx="44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40480" y="4940280"/>
            <a:ext cx="2489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The Electricity Utilities Industry Law rev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-1080" y="2320560"/>
            <a:ext cx="729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odule manufacturing cost 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yen/W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4737240"/>
            <a:ext cx="14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79440" y="642132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57480" y="609768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e Sunshine Project 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974-1992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1004760"/>
            <a:ext cx="69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ore than 90% cost reduction during the Sunshin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96960" y="1295280"/>
            <a:ext cx="77328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Based on this result, installation support activities commenced for initial demand creation in 199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95640" y="6889680"/>
            <a:ext cx="6670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ource 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New Energy Manual 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gency of Natural Resources and Energy</a:t>
            </a:r>
            <a:r>
              <a:rPr b="0" lang="zh-CN" sz="16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96920" y="1852560"/>
            <a:ext cx="19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20,000JPY/W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’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74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75240" y="4749840"/>
            <a:ext cx="21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5,000yen/W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’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80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62440" y="5283360"/>
            <a:ext cx="18795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2,000yen/W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’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82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45320" y="5589720"/>
            <a:ext cx="192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1,200yen/W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’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85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62840" y="563868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600yen/W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（’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92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353600" y="2139840"/>
            <a:ext cx="27468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967200" y="5029200"/>
            <a:ext cx="21096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277960" y="5594400"/>
            <a:ext cx="2113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162480" y="5867280"/>
            <a:ext cx="13644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5440" y="5934240"/>
            <a:ext cx="36720" cy="30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807400" y="4822920"/>
            <a:ext cx="21600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09800" y="7002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olar cell module manufacturing cost reduction 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achieved by the Sunshine Pro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4282920"/>
            <a:ext cx="2286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Installation support (public facilit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80400" y="4317840"/>
            <a:ext cx="14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31000" y="5518080"/>
            <a:ext cx="55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5120" y="3736800"/>
            <a:ext cx="2103480" cy="581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5120" y="3736800"/>
            <a:ext cx="2500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～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Installation support comme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19120" y="1409760"/>
            <a:ext cx="241560" cy="198360"/>
          </a:xfrm>
          <a:prstGeom prst="rightArrow">
            <a:avLst>
              <a:gd name="adj1" fmla="val 50407"/>
              <a:gd name="adj2" fmla="val 5448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409680"/>
            <a:ext cx="849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&amp;D Activities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ll Manufacturing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B4CD-68CD-427A-9895-1466D8128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4520" y="5181480"/>
            <a:ext cx="433836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600200"/>
            <a:ext cx="65786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68400" y="320040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2b2b2"/>
                </a:solidFill>
                <a:uFillTx/>
                <a:latin typeface="ＭＳ Ｐゴシック"/>
              </a:rPr>
              <a:t>Targets</a:t>
            </a: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：　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Crystalline silicon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640" y="1612800"/>
            <a:ext cx="654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ＭＳ Ｐゴシック"/>
              </a:rPr>
              <a:t>Solar cell manufacturing technolog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9720" y="520704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System technolog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65160" y="2333520"/>
            <a:ext cx="864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2b2b2"/>
                </a:solidFill>
                <a:uFillTx/>
                <a:latin typeface="ＭＳ Ｐゴシック"/>
              </a:rPr>
              <a:t>Items for development</a:t>
            </a: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：　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Low cost manufacturing process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8640" y="5689440"/>
            <a:ext cx="85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arget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inverters, peripheral equipment such as stora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97160" y="4460760"/>
            <a:ext cx="706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Significant reduction of solar cell module manufactur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06360" y="6248520"/>
            <a:ext cx="700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gnificant reduction of peripheral equipment installation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262760" y="4288680"/>
            <a:ext cx="241560" cy="198360"/>
          </a:xfrm>
          <a:prstGeom prst="rightArrow">
            <a:avLst>
              <a:gd name="adj1" fmla="val 50407"/>
              <a:gd name="adj2" fmla="val 5448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258080" y="6098400"/>
            <a:ext cx="241560" cy="198360"/>
          </a:xfrm>
          <a:prstGeom prst="rightArrow">
            <a:avLst>
              <a:gd name="adj1" fmla="val 50407"/>
              <a:gd name="adj2" fmla="val 54484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38520" y="259380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Greater manufactur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80040" y="2873520"/>
            <a:ext cx="31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Stable material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91440" y="34480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Thin-film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24040" y="3714840"/>
            <a:ext cx="49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Compound semiconductor sola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2840" y="4753080"/>
            <a:ext cx="506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ＭＳ Ｐゴシック"/>
              </a:rPr>
              <a:t>(Particularly during the Sunshine Pro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409680"/>
            <a:ext cx="849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&amp;D Activities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stem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2286000"/>
            <a:ext cx="8074080" cy="1887480"/>
          </a:xfrm>
          <a:prstGeom prst="roundRect">
            <a:avLst>
              <a:gd name="adj" fmla="val 6792"/>
            </a:avLst>
          </a:prstGeom>
          <a:noFill/>
          <a:ln cap="rnd" w="38160">
            <a:solidFill>
              <a:srgbClr val="99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3480" y="91440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NEDO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：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entral role in development of PV cell manufacturing technolog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3160" y="111132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evelopment of system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4368-C75B-4852-882C-B6A32D3FC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2:33:48Z</dcterms:created>
  <dc:creator>RIGHTWAY</dc:creator>
  <dc:description/>
  <dc:language>en-US</dc:language>
  <cp:lastModifiedBy>Btrip01</cp:lastModifiedBy>
  <dcterms:modified xsi:type="dcterms:W3CDTF">2004-11-09T13:14:34Z</dcterms:modified>
  <cp:revision>292</cp:revision>
  <dc:subject/>
  <dc:title>PowerPoint プレゼンテーション</dc:title>
</cp:coreProperties>
</file>