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E5B-955F-4B9C-A3D6-94C089C6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7D9-F9BD-4047-BE25-69C9C055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12F-792B-4F3E-801E-32F0426A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9E3-AD5B-429A-9766-0E2A8EBB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E76E-12D1-47EB-A1B2-F1F50066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BB79-34CB-4CEB-8775-D48A6906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73EC-BF3C-4D15-90C5-7673A297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7571-2E5C-4184-AE21-697FDE7E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5B32-5FDF-4E61-AAB6-AB010E37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2A72-5A06-48D9-854B-3B697A22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9D46-61DB-4BE9-A5C3-DE257F1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C1A-EEEA-42C4-8102-E494751E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AD56-1AAE-4BF9-B581-4F30EBB0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72E5-DDFE-426B-AA16-9835C4DA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40E0-CB4E-45B5-81C6-BD30F4A0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5CC-947A-42E6-AC3F-AFEB4DA4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CF92-75D0-4DD9-BF36-FFEB198B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694-51DA-4F28-8530-783706D2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CB9-6FBF-4BD2-9E29-DF7FEAEE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55D-5B90-4B02-80D2-62DBD42D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3A1-3E5E-435A-8536-C0A450B1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4AE-F764-4699-A7AA-1F1BE4BC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3C1-B90F-4628-9ACF-63240694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AE1-E83A-4658-8DD4-6B415A9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48000" y="623736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CEE4-4FCF-4559-9BA4-C3CE8A06008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6172200" y="6381720"/>
            <a:ext cx="2720520" cy="311040"/>
            <a:chOff x="6172200" y="6381720"/>
            <a:chExt cx="2720520" cy="311040"/>
          </a:xfrm>
        </p:grpSpPr>
        <p:pic>
          <p:nvPicPr>
            <p:cNvPr id="9" name="" descr=""/>
            <p:cNvPicPr/>
            <p:nvPr/>
          </p:nvPicPr>
          <p:blipFill>
            <a:blip r:embed="rId3"/>
            <a:srcRect l="-58406" t="59024" r="25666" b="-15146"/>
            <a:stretch/>
          </p:blipFill>
          <p:spPr>
            <a:xfrm>
              <a:off x="6172200" y="6440400"/>
              <a:ext cx="239364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4"/>
            <a:srcRect l="74337" t="0" r="0" b="0"/>
            <a:stretch/>
          </p:blipFill>
          <p:spPr>
            <a:xfrm>
              <a:off x="8572320" y="6381720"/>
              <a:ext cx="3204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09920" y="6248520"/>
            <a:ext cx="80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D28E-7A5E-4209-B4AB-4F90D758F2D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2200" y="6381720"/>
            <a:ext cx="2720520" cy="311040"/>
            <a:chOff x="6172200" y="6381720"/>
            <a:chExt cx="2720520" cy="311040"/>
          </a:xfrm>
        </p:grpSpPr>
        <p:pic>
          <p:nvPicPr>
            <p:cNvPr id="53" name="" descr=""/>
            <p:cNvPicPr/>
            <p:nvPr/>
          </p:nvPicPr>
          <p:blipFill>
            <a:blip r:embed="rId3"/>
            <a:srcRect l="-58406" t="59024" r="25666" b="-15146"/>
            <a:stretch/>
          </p:blipFill>
          <p:spPr>
            <a:xfrm>
              <a:off x="6172200" y="6440400"/>
              <a:ext cx="239364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rcRect l="74337" t="0" r="0" b="0"/>
            <a:stretch/>
          </p:blipFill>
          <p:spPr>
            <a:xfrm>
              <a:off x="8572320" y="6381720"/>
              <a:ext cx="320400" cy="3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&amp; Renewable Energy Technologies Development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g Kong Special Administrativ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Y F KW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and Mechanical Services D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PEC 23rd EGNRET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9726-76B0-495F-9FF6-85D8F48320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0 - 12 Nov 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sultancy Study – Last Update (1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ncy study on Potential  Application of Renewable Energy in Hong K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ed in late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1 completed in early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EC 23rd EGNRET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8ED-80AA-4A13-84B3-128130EF62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12 Nov 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sultancy Study – Last Upd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2 is a BIPV demonstratio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15000" y="1765440"/>
            <a:ext cx="3124080" cy="41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EC 23rd EGNRET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1B9-F259-40FC-8191-879EF64A92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12 Nov 20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KSARG – Current Update (1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BIPV demonstration project completed and report will soon be issu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SD has built a new 350 kW grid-connected BIPV in its new Headquarters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88080" y="2357280"/>
            <a:ext cx="2962080" cy="297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EC 23rd EGNRET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764-D52F-498B-BD1E-2EAA5194A4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12 Nov 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KSARG – Current Update (2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ched a Wind Measurement Program in mid 2004 to monitor the wind resources at 5 potenti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028" t="911" r="1817" b="0"/>
          <a:stretch/>
        </p:blipFill>
        <p:spPr>
          <a:xfrm>
            <a:off x="3924360" y="3141720"/>
            <a:ext cx="421308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EC 23rd EGNRET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B20-1342-433E-BC5B-D3AA396AA2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12 Nov 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KSARG – Current Update (3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 Power Utilities in HK have agreed each to build a commercial-scale wind turbine for demonstration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already fixed the site, completed EIA and is tendering. Expected to start generation i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EC 23rd EGNRET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AD7-65BB-4285-A357-93A7868C7E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12 Nov 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KSARG – Current Update (4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Sustainable Development Council of HKSARG recently issued an “Invitation and Response Document” to seek the general public’s view on three areas for SD, including use of 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EC 23rd EGNRET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792-4D30-4B8F-875F-22B6915008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12 Nov 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KSARG – Current Update (5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SD has set up a Working Group to formulate a set of technical guidelines on Grid Connection for small-scale RE power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EC 23rd EGNRET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FF0-467F-4A2D-809B-14D085DA04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12 Nov 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4:29:06Z</dcterms:created>
  <dc:creator>Administrator</dc:creator>
  <dc:description/>
  <dc:language>en-US</dc:language>
  <cp:lastModifiedBy>Administrator</cp:lastModifiedBy>
  <dcterms:modified xsi:type="dcterms:W3CDTF">2004-11-09T19:16:30Z</dcterms:modified>
  <cp:revision>10</cp:revision>
  <dc:subject/>
  <dc:title>New &amp; Renewable Energy Technologies Development in Hong Kong Special Administrative Region</dc:title>
</cp:coreProperties>
</file>