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966-A4B2-447F-9C43-2ED7F65D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E3A-DAF2-4DFB-A271-39768C3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45D-59D2-4422-A812-9880E3C0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194-9984-4F18-94C1-2C58CB5E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A77-C1E7-43DB-AA41-89539385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8A24-8A5B-4B7A-800B-B943DF4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EBB1-F5AE-46F7-8CCF-8FEDE8F6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7772-93F3-4B5D-84EF-A6618A22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C40E-E6AD-4019-AB49-1CE9B2C8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A7EC-5F33-4BCD-883A-A0321487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373-F61F-4018-A597-E506603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ED-9D3E-4EC2-9D93-04301CA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4502-AA87-4CDE-A7A9-C5BA753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0431-1E2C-49A8-B89A-DCE6CD0A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5A3F-0D3A-4078-86F8-F12FFE2E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2C6A-A53E-466C-BE43-0300D0B4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9731-04DF-402C-B214-69C95906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037-3AA9-4014-B222-D7E8663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CF1-41CC-4AA5-93F9-56B905B9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DF6-3650-41C9-B45D-7D89BFC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348-AC0B-4D08-8BED-39C6500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DE1-6461-41EA-A209-5A873B7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F08-3CEF-4AB6-BF31-0D77FF1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CA5-F46A-4EB3-8A0A-6F59682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C92-B26D-489B-A2F8-4AF6F61096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5C5B-B162-4ECC-9B32-5912B8A286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  <a:ea typeface="宋体"/>
              </a:rPr>
              <a:t>COLLABORATIVE IV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  <a:ea typeface="宋体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cbcbcb"/>
                </a:solidFill>
                <a:latin typeface="Arial"/>
                <a:ea typeface="宋体"/>
              </a:rPr>
              <a:t>– Lead Economy:  China</a:t>
            </a:r>
            <a:r>
              <a:rPr b="1" lang="en-US" sz="4400" spc="-1" strike="noStrike">
                <a:solidFill>
                  <a:srgbClr val="cbcbcb"/>
                </a:solidFill>
                <a:latin typeface="Arial"/>
                <a:ea typeface="宋体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宋体"/>
              </a:rPr>
              <a:t>Adoption of </a:t>
            </a:r>
            <a:r>
              <a:rPr b="1" lang="en-US" sz="3200" spc="-1" strike="noStrike">
                <a:solidFill>
                  <a:srgbClr val="ff7c80"/>
                </a:solidFill>
                <a:latin typeface="Times New Roman"/>
                <a:ea typeface="宋体"/>
              </a:rPr>
              <a:t>Renewable Energy Standards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roject overs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ong Yanq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y 11, 2004  Honolu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C006-1E77-4F1A-8A17-E2168E432A4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  <a:ea typeface="宋体"/>
              </a:rPr>
              <a:t>Backgroun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sters the development of common standards for RE in the APEC member economi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ate renewable energy related trade and investment liberalizatio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eview and documentation of available standards for off-grid and grid-interactive renewable energy system applications in APEC member economie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FD5-61E6-4D08-BE93-73DEB4FE80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  <a:ea typeface="宋体"/>
              </a:rPr>
              <a:t>Objectiv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evelopment of harmonized standards for renewable energ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rowth in renewable energy businesses due to increased opportunities among APEC member econom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evelopment of renewable energy technology and infrastructure due to greater access, lower cost as a result of economies of scale benefits, and expansion of the renewable energy mar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8AA-E9B5-45CD-BEE3-C43E705E3C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  <a:ea typeface="宋体"/>
              </a:rPr>
              <a:t>Contractor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SP (Institute for Sustainable Power), the US was selected to implement the project through competitive bidd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wo partners ar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SES(Global Sustainable Energy Solutions) from Australia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IA(Chinese Renewable Energy Industries Association) from Ch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FB1-CB56-4C0B-B091-593D05FE18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Activities Accomplish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urvey of Available Standard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eeds Asses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takeholder Workshop (through internet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ction Pla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newable Energy Standards Resource Gu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3B5-C9FE-4182-AEFC-B1C3CC6010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of a survey on the existing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an Action Pl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 by the Consultant of the draf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resource gu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ization of the resource guide on renewable energy standards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838080"/>
            <a:ext cx="43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Key deliverables include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7F0-5456-447C-8B7E-03E52606E51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276720"/>
            <a:ext cx="8458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s in Standards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effective ways to develop, harmonize, and promote renewable energy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1: Establish APEC renewable energy Standards Secretari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2: Selection of pilot standards and econom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3:Establish hardware/systems Technical Standards Committe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914400"/>
            <a:ext cx="55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Main Content in the Action Pla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CEF-1269-4FCC-8944-64D03B277B7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3276720"/>
            <a:ext cx="815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e limitation (e.g. Solar, Wind, and Bio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838080" indent="-838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GNRET establishes an APEC RE Standards Secretari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838080" indent="-838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retariat defines three priority technologies and three to five APEC economies in which to pilot the standard and harmo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838080" indent="-838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retariat identified subject matter experts for each of the three priority technology areas to constitute the Technical/Task Analysis Committees and appoint the chair of the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914400"/>
            <a:ext cx="55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Summary of Recommendatio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D8E-DF56-4E30-9961-EEEE6BA6AEA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1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ng</cp:lastModifiedBy>
  <dcterms:modified xsi:type="dcterms:W3CDTF">2004-05-13T20:40:45Z</dcterms:modified>
  <cp:revision>8</cp:revision>
  <dc:subject/>
  <dc:title>PowerPoint 演示文稿</dc:title>
</cp:coreProperties>
</file>