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A75E-B733-4376-8F2A-E139FB88D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D1CB-E038-4BF0-BBD9-20B7B3FCC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D22A-88D2-4FE2-86DC-95FC7003C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788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3772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9840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788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3772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DDE6-7A40-4576-81A0-8A4C5F194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28160" y="476640"/>
            <a:ext cx="8761320" cy="21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D005-139F-44B8-86AB-CFD556D2F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788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3772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9840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788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3772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1C9D-F39B-4E25-8D40-F86B7B33E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6A13-A822-4E9F-9B61-FB1C664A7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3E63-2E9E-4D65-8B28-7AD9678A8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8160" y="476640"/>
            <a:ext cx="8761320" cy="21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69E7-616E-4330-820C-C2E844A14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366A-E35D-479A-8D3C-5CF7C1039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9880-387D-4CE4-86AC-EF610A10E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D2E8-32D5-42D2-A29C-889F92FE5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47880" y="6303960"/>
            <a:ext cx="5416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214200" y="6303960"/>
            <a:ext cx="400320" cy="3650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27160" y="6262560"/>
            <a:ext cx="8662680" cy="0"/>
          </a:xfrm>
          <a:prstGeom prst="line">
            <a:avLst/>
          </a:prstGeom>
          <a:ln w="1260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631360" y="6031080"/>
            <a:ext cx="357120" cy="3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52FC-AA40-4780-B490-8042096F71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2200" y="6293520"/>
            <a:ext cx="13334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Pioneering 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Science and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7160" y="920880"/>
            <a:ext cx="864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67600" y="6282360"/>
            <a:ext cx="113508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fice of Sci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U.S. Depart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305920" y="6297480"/>
            <a:ext cx="608040" cy="365040"/>
            <a:chOff x="8305920" y="6297480"/>
            <a:chExt cx="608040" cy="365040"/>
          </a:xfrm>
        </p:grpSpPr>
        <p:pic>
          <p:nvPicPr>
            <p:cNvPr id="9" name="" descr=""/>
            <p:cNvPicPr/>
            <p:nvPr/>
          </p:nvPicPr>
          <p:blipFill>
            <a:blip r:embed="rId3"/>
            <a:stretch/>
          </p:blipFill>
          <p:spPr>
            <a:xfrm>
              <a:off x="8305920" y="6297480"/>
              <a:ext cx="608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8566200" y="6443640"/>
              <a:ext cx="76320" cy="7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19560" y="5894280"/>
            <a:ext cx="52578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U.S. Department of Energy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ffice of Science Labo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erated by The University of Chic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213760" y="5977080"/>
            <a:ext cx="549360" cy="550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583400" y="5977080"/>
            <a:ext cx="443160" cy="55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57440" y="5821200"/>
            <a:ext cx="6200640" cy="0"/>
          </a:xfrm>
          <a:prstGeom prst="line">
            <a:avLst/>
          </a:prstGeom>
          <a:ln w="1908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75000" y="5506200"/>
            <a:ext cx="49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53480" y="6405480"/>
            <a:ext cx="712440" cy="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1a1818"/>
                </a:solidFill>
                <a:latin typeface="Arial"/>
              </a:rPr>
              <a:t>Office of Scien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2360" y="6486480"/>
            <a:ext cx="633240" cy="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1a1818"/>
                </a:solidFill>
                <a:latin typeface="Arial"/>
              </a:rPr>
              <a:t>U.S. Department of Energ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558880" y="5979960"/>
            <a:ext cx="698760" cy="374760"/>
            <a:chOff x="2558880" y="5979960"/>
            <a:chExt cx="698760" cy="374760"/>
          </a:xfrm>
        </p:grpSpPr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2558880" y="5979960"/>
              <a:ext cx="698760" cy="3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863800" y="6134040"/>
              <a:ext cx="8244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57000" y="1629720"/>
            <a:ext cx="645156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520" y="66600"/>
            <a:ext cx="579132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view of APEC Expert Group on New and Renewable Energy Technologies      (EGNRET) Activities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971800" y="2361960"/>
            <a:ext cx="5029200" cy="29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ary Bloy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loyd@anl.gov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aling Up Renewable Energy Financing and Investment in the Asia Pacific Economic Cooperation (APEC) Regio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nolulu, Hawaii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yatt Regency Hote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y 10-12, 2004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hat is APEC?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38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-Pacific Economic Cooperation (APEC) was created in 19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Promote trade liberalization, trade facilitation and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s its activities through 11 working groups including the Energy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WG is assisted by 5 Expert Groups including the Expert Group on New and Renewable Energy Technologies (EGNR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ttp://www.apec.o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PEC Member Economies span the Pacific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040" y="1460160"/>
            <a:ext cx="390852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nei Darussala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s Republic of Chin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g Kong C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Kore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aysi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24"/>
              </a:spcBef>
              <a:spcAft>
                <a:spcPts val="224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x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0080" y="1460160"/>
            <a:ext cx="401940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Zeal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ua New Guin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u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the Philippi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apo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ese Taipe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il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sia Pacific Economic Cooper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1684440"/>
            <a:ext cx="1787400" cy="5731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1584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Informal Meeting of Economic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60720" y="2674800"/>
            <a:ext cx="1787400" cy="5270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Ministry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60720" y="3589200"/>
            <a:ext cx="1787400" cy="55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Senior Officials Meeting (S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1040" y="2179800"/>
            <a:ext cx="1606680" cy="5713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APEC Business Advisory Counc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03760" y="2217600"/>
            <a:ext cx="1758960" cy="5637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Sectoral Ministerial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1640" y="4199040"/>
            <a:ext cx="1828800" cy="5792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AP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Secretari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4960" y="5189400"/>
            <a:ext cx="1271880" cy="7621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Times New Roman"/>
              </a:rPr>
              <a:t>Budget &amp; Management Committee (BMC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47800" y="5197320"/>
            <a:ext cx="1271520" cy="754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Times New Roman"/>
              </a:rPr>
              <a:t>SO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Times New Roman"/>
              </a:rPr>
              <a:t>Sub-committee on ECOTECH (ESC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1800" y="5197320"/>
            <a:ext cx="1271520" cy="754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Times New Roman"/>
              </a:rPr>
              <a:t>Committee 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Times New Roman"/>
              </a:rPr>
              <a:t>Trade &amp; Investment (CTI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6080" y="5197320"/>
            <a:ext cx="1271520" cy="754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Times New Roman"/>
              </a:rPr>
              <a:t>Economic Committee (EC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08560" y="5197320"/>
            <a:ext cx="1271880" cy="754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Times New Roman"/>
              </a:rPr>
              <a:t>SOM Task Force (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1400" y="5197320"/>
            <a:ext cx="1271520" cy="754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Times New Roman"/>
              </a:rPr>
              <a:t>Working Group (9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Times New Roman"/>
              </a:rPr>
              <a:t>&amp; Other Group (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9000" y="2046240"/>
            <a:ext cx="741240" cy="420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869000" y="2571840"/>
            <a:ext cx="741240" cy="4204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57200" y="2046240"/>
            <a:ext cx="803160" cy="3999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57560" y="2598840"/>
            <a:ext cx="803160" cy="393480"/>
          </a:xfrm>
          <a:prstGeom prst="line">
            <a:avLst/>
          </a:prstGeom>
          <a:ln w="9360">
            <a:solidFill>
              <a:srgbClr val="33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3720" y="2257560"/>
            <a:ext cx="0" cy="4172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33720" y="3208320"/>
            <a:ext cx="0" cy="3808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33720" y="4148280"/>
            <a:ext cx="0" cy="10490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0080" y="4960800"/>
            <a:ext cx="7415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0080" y="4960800"/>
            <a:ext cx="0" cy="209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19480" y="4960800"/>
            <a:ext cx="0" cy="209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84800" y="4960800"/>
            <a:ext cx="0" cy="209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67640" y="4960800"/>
            <a:ext cx="0" cy="209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4960800"/>
            <a:ext cx="0" cy="20952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33720" y="4503600"/>
            <a:ext cx="1447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9040" y="2522520"/>
            <a:ext cx="9144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53440" y="2522520"/>
            <a:ext cx="0" cy="26668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8160" y="65520"/>
            <a:ext cx="8761320" cy="86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EC Expert Group on New and Renewable Energy Technologies (EGNRET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on:  To facilitate the increase in the use of new &amp; renewable energy technologies in the APEC reg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carrying out this mission, EGNR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technical support for in country progra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s trade in clean energy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8160" y="120240"/>
            <a:ext cx="876132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GNRET’s Renewable Energy Activities are Diverse and Complementary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5438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uct research projec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e worksh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ing Major Initia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EC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Renewable Energy Development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8160" y="65520"/>
            <a:ext cx="8761320" cy="86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Finance Has Been a Central Theme of Many EGNRET Projec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400" y="1460520"/>
            <a:ext cx="8191440" cy="48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ia-Pacific Economic Cooperation Guidebook for Financing New and Renewable Energy Projects (Aug. 199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 Projects in APEC Member Economies: Road Maps for Success (Nov. 20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rdia New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EC Renewable Energy Infrastructure Assessment (Dec. 200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EC 21st Century Renewable Energy Development Initiative VIII): Financial roadmap for the APEC Region (Feb. 200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rdia New"/>
              </a:rPr>
              <a:t>APEC 21st Century Renewable Energy Development Initiative (Collaborative VIII):  Building and Developing an APEC Renewable-Energy Collaboratives Projects Integrator (APEC-CPI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de-Spread Implementation of Renewable (2003-curren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athways to a Renewable Energy Futur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378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4952880" y="3504960"/>
            <a:ext cx="0" cy="68580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705720" y="3581280"/>
            <a:ext cx="0" cy="53352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PEC EGNRET Goal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goal is to establish a self-replicating mechanism to move from energy service needs to successful future that can take into account the economic, political, social, and physical differences exhibited in APEC Econom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y Bloyd</cp:lastModifiedBy>
  <cp:lastPrinted>2002-11-01T00:58:38Z</cp:lastPrinted>
  <dcterms:modified xsi:type="dcterms:W3CDTF">2004-05-14T18:28:36Z</dcterms:modified>
  <cp:revision>108</cp:revision>
  <dc:subject/>
  <dc:title>ASIAN PACIFIC ECONOMIC CORPORATION</dc:title>
</cp:coreProperties>
</file>