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0236-C32D-4BD9-B375-7467E3EA2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736272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74280"/>
            <a:ext cx="736272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A9AC-8CEE-4C72-AC6D-E7E88EAA4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77720" y="228564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7428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77720" y="427428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E761-77C6-4A1E-9C88-43A33AA7B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3706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94320" y="2285640"/>
            <a:ext cx="23706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84080" y="2285640"/>
            <a:ext cx="23706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74280"/>
            <a:ext cx="23706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94320" y="4274280"/>
            <a:ext cx="23706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84080" y="4274280"/>
            <a:ext cx="23706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36E0-7DB7-404A-B81A-31251A163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73627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C70F-2BC8-41EC-B540-B291CED1B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736272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783D-D7AD-483C-9CF1-312CCA8EE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5928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77720" y="2285640"/>
            <a:ext cx="35928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A482-FCF8-452A-9A19-B7986C9C1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C14A-76BC-432B-BDE4-8FB4E4952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730872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D57F-F0F1-4A74-A6EC-CC7341D6F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77720" y="2285640"/>
            <a:ext cx="35928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7428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9946-1250-4623-90F0-75B17C15A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5928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77720" y="228564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7720" y="427428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765E-A78B-48F9-A564-686170C15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77720" y="2285640"/>
            <a:ext cx="3592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74280"/>
            <a:ext cx="736272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59C1-368C-44F6-83D2-F77758A0B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e5b0c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736272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e5b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e5b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e5b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e5b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e5b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5b0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742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2D00-9671-4BD5-9DFB-126AB8AC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5b0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65516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5b0c"/>
                </a:solidFill>
                <a:latin typeface="Arial"/>
              </a:rPr>
              <a:t>TWO SOLAR PROJECTS:</a:t>
            </a: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5b0c"/>
                </a:solidFill>
                <a:latin typeface="Arial"/>
              </a:rPr>
              <a:t>RURAL AND URBAN AUSTRALIA</a:t>
            </a: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5b0c"/>
                </a:solidFill>
                <a:latin typeface="Arial"/>
              </a:rPr>
              <a:t>Energy and Environment Division</a:t>
            </a: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5b0c"/>
                </a:solidFill>
                <a:latin typeface="Arial"/>
              </a:rPr>
              <a:t>Department of Industry, Tourism and Resources</a:t>
            </a: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e5b0c"/>
                </a:solidFill>
                <a:latin typeface="Arial"/>
              </a:rPr>
              <a:t>EGNRET 23, Christchurch NZ </a:t>
            </a: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e5b0c"/>
                </a:solidFill>
                <a:latin typeface="Arial"/>
              </a:rPr>
              <a:t>10-13 November 2004</a:t>
            </a:r>
            <a:endParaRPr b="1" lang="en-US" sz="2400" spc="-1" strike="noStrike">
              <a:solidFill>
                <a:srgbClr val="0e5b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3087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e5b0c"/>
                </a:solidFill>
                <a:latin typeface="Arial Black"/>
              </a:rPr>
              <a:t>Presentation Overview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e5b0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68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e5b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e5b0c"/>
                </a:solidFill>
                <a:latin typeface="Arial"/>
              </a:rPr>
              <a:t>Anangu Pitjantjatjara Solar Station</a:t>
            </a:r>
            <a:r>
              <a:rPr b="0" lang="en-AU" sz="2600" spc="-1" strike="noStrike">
                <a:solidFill>
                  <a:srgbClr val="0e5b0c"/>
                </a:solidFill>
                <a:latin typeface="Arial"/>
              </a:rPr>
              <a:t>, </a:t>
            </a:r>
            <a:r>
              <a:rPr b="1" lang="en-AU" sz="2600" spc="-1" strike="noStrike">
                <a:solidFill>
                  <a:srgbClr val="0e5b0c"/>
                </a:solidFill>
                <a:latin typeface="Arial"/>
              </a:rPr>
              <a:t>rural South Australia—a unique 220KW power station concentrating energy before conversion</a:t>
            </a: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e5b0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e5b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e5b0c"/>
                </a:solidFill>
                <a:latin typeface="Arial"/>
              </a:rPr>
              <a:t>Kogarah Town Square, Sydney—a redeveloped roof integrated PV station</a:t>
            </a:r>
            <a:r>
              <a:rPr b="0" lang="en-AU" sz="2600" spc="-1" strike="noStrike">
                <a:solidFill>
                  <a:srgbClr val="0e5b0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e5b0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84464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D3D1-3F8A-4514-BD2F-E2D357F91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3068280"/>
            <a:ext cx="736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5b0c"/>
              </a:solidFill>
              <a:latin typeface="Arial"/>
            </a:endParaRPr>
          </a:p>
          <a:p>
            <a:pPr marL="49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5b0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69780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472428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4221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076640"/>
            <a:ext cx="727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Anangu Pitjantjatjara Sola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rea covers 100,000 sq km with a population of 2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ower Station consists of 10 CS500 connected to a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mini-grid servicing a number of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EE2F-AACB-4686-8D67-246E024BFC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483920"/>
            <a:ext cx="736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e5b0c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e5b0c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6000"/>
          </a:blip>
          <a:srcRect l="54824" t="23428" r="0" b="19568"/>
          <a:stretch/>
        </p:blipFill>
        <p:spPr>
          <a:xfrm>
            <a:off x="684360" y="333360"/>
            <a:ext cx="2592360" cy="197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384280"/>
            <a:ext cx="7200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s Solar System’s high concentration PV technology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with mirrored  parabolic collectors to concentrate th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sun approx. 500 times onto PV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as approx. 130 sq.m. of curved mirrors and its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own control system and i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cks the sun on dual axes from sunrise to sunset,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maximis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as the potential to upgrade by replacing  th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receiver with higher-efficiency PV mo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4560" y="641520"/>
            <a:ext cx="210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155736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Each CS500 d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5684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765000"/>
            <a:ext cx="22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19A6-2603-4A0D-9AD8-AA820463BD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6840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cuses the sunlight to the cell bank in the receiver,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where it is converted immediately to DC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  a matched inverter then produces 22kWe of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standard 3  phase, 415 Volt AC power at output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 a fan-forced heat exchanger cools the solar cell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s capable of operating independently from the rest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of the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9845-F2C4-4894-A055-6A86C17466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734080"/>
            <a:ext cx="633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04640"/>
            <a:ext cx="662472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Solar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cludes an on-site control room but may be fully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monitored and operated from a distance, vital when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working in very remote area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ll complement a 3MW diesel station, reducing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diesel consumption by an anticipated 160,000 litr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a year, with significant financial and GHG sav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s expected to produce approx. 0.5 GWh of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electricity a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the modular nature of the CS500 dish, is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capable of being sized up or down, according to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community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34CD-0FA8-42FE-98A9-B027ACB460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6276960"/>
            <a:ext cx="658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264360" cy="3152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02588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076640"/>
            <a:ext cx="6624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Kogarah Town Square PV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ustralia’s largest, solar-powered, medium-density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residential and commerci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cludes a roof integrated PV power station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designed by Energy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65FF-D93F-4856-A386-216D6D10DE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341360"/>
            <a:ext cx="640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8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PV modules placed  on all roof surfac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rather than just north-facing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 a Solardek system used for main part of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the roof, utilising Uni-Solar PV laminat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which perform well in hot weather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- transparent glass PV modules placed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on an awning and a glass roof in the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ll incorporate at least 160kW of modular PV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solar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5850-AED2-4A19-8158-5370B9F188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484280"/>
            <a:ext cx="6480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nected to the electricity grid via 58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computer-monitored Sunpower inver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 enabling energy produced to be displayed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locally and over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xcess energy to be exported to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xpected to generate 153,000 kWh a year, with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greenhouse gas savings of 140 t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2768-A5B6-475C-8045-344E336C1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23:25:44Z</dcterms:created>
  <dc:creator>Chamandeep Chehl</dc:creator>
  <dc:description/>
  <dc:language>en-US</dc:language>
  <cp:lastModifiedBy>Jan McCallum-Johnston</cp:lastModifiedBy>
  <cp:lastPrinted>2003-08-12T00:54:42Z</cp:lastPrinted>
  <dcterms:modified xsi:type="dcterms:W3CDTF">2004-11-08T08:01:07Z</dcterms:modified>
  <cp:revision>173</cp:revision>
  <dc:subject/>
  <dc:title>Australia’s Energy Security Initiatives</dc:title>
</cp:coreProperties>
</file>