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0E7C-6F4D-4544-88D4-CDEDF4BC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2FAD-C7CA-42AA-82AB-9B13C545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8CF-A3EC-4B77-86B2-653E668D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33C-88F7-44A0-9708-3AE825A8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39F1-59B3-435D-8895-23781357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29E-8C40-4AA7-B72E-C680A115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5C1-7D23-417D-B3A8-ABDAF697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DA9D-8195-4E7A-974E-17171FB7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E6B-2E65-4255-99C4-A3F0BF08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792-7802-4731-A52D-E27382E4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D18-1716-411C-922A-EB187462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931-561C-43BC-A189-EDDAD960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906E-AEB9-48B8-A004-AD136B9EC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EC Renewable Ener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nce 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7391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on American Council on Renewable Energy (ACORE) Meeting in New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 Terry Surles, Pacific International Center for High Technology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behalf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e Eckhart, ACORE C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14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of the Leading Growth Industries in the Early 2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7543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s Must Adjust Due to Security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Investment Veh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Market Growth for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Fuel Price Vola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ity De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67480" y="53341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Growth Has Resulted In Global Annual Renewable Energy Installations of $15 Bill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ion and Dis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Technology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Market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Incentives – for All Energ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Renewable Resource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/Institution Lin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67480" y="52578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838080"/>
            <a:ext cx="7391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duct 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1905120"/>
            <a:ext cx="3124080" cy="15238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5cc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AGRounded BT"/>
              </a:rPr>
              <a:t>SOLAR 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743200"/>
            <a:ext cx="3200400" cy="12952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AGRounded BT"/>
              </a:rPr>
              <a:t>FUE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3429000"/>
            <a:ext cx="34290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AGRounded BT"/>
              </a:rPr>
              <a:t>SOLAR THE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3200400"/>
            <a:ext cx="2286000" cy="1143000"/>
          </a:xfrm>
          <a:prstGeom prst="ellipse">
            <a:avLst/>
          </a:prstGeom>
          <a:gradFill rotWithShape="0">
            <a:gsLst>
              <a:gs pos="0">
                <a:srgbClr val="7181fb"/>
              </a:gs>
              <a:gs pos="50000">
                <a:srgbClr val="9bcdff"/>
              </a:gs>
              <a:gs pos="100000">
                <a:srgbClr val="7181fb"/>
              </a:gs>
            </a:gsLst>
            <a:lin ang="5400000"/>
          </a:gradFill>
          <a:ln w="9360">
            <a:solidFill>
              <a:srgbClr val="6666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AGRounded BT"/>
              </a:rPr>
              <a:t>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5029200"/>
            <a:ext cx="2438280" cy="106668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0000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AGRounded BT"/>
              </a:rPr>
              <a:t>SYSTEM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AGRounded BT"/>
              </a:rPr>
              <a:t>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4343400"/>
            <a:ext cx="342900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AGRounded BT"/>
              </a:rPr>
              <a:t>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4038480"/>
            <a:ext cx="2057400" cy="1219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AGRounded BT"/>
              </a:rPr>
              <a:t>MICR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AGRounded BT"/>
              </a:rPr>
              <a:t>TURB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5029200"/>
            <a:ext cx="2514600" cy="1295280"/>
          </a:xfrm>
          <a:prstGeom prst="ellipse">
            <a:avLst/>
          </a:prstGeom>
          <a:gradFill rotWithShape="0">
            <a:gsLst>
              <a:gs pos="0">
                <a:srgbClr val="9bcdff"/>
              </a:gs>
              <a:gs pos="50000">
                <a:srgbClr val="000000"/>
              </a:gs>
              <a:gs pos="100000">
                <a:srgbClr val="9bcdff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AGRounded BT"/>
              </a:rPr>
              <a:t>CLEAN FU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1905120"/>
            <a:ext cx="2514600" cy="1066680"/>
          </a:xfrm>
          <a:prstGeom prst="ellipse">
            <a:avLst/>
          </a:prstGeom>
          <a:solidFill>
            <a:srgbClr val="f9e1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213372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0120" y="55627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tovoltaic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66720" y="1828800"/>
          <a:ext cx="7885080" cy="419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720" y="1828800"/>
                    <a:ext cx="78850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219320" y="4876920"/>
            <a:ext cx="457200" cy="38088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4648320"/>
            <a:ext cx="457200" cy="38088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4495680"/>
            <a:ext cx="457200" cy="38124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48720" y="2666880"/>
            <a:ext cx="457200" cy="38124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stment Criteria are Consistent with Silicon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8487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Managemen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etary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tial Capital Appre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Legal/Financial Down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ure Stage: Pre-commercialization to Expa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467480" y="52578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owerlite Story: An Example of Public Goods R&amp;D Linking to Public Policy Incen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 for PV Buildings Energy efficient Material Discussed with C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d Money for Tech Development from CEC, later supplemented by USD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Commercialization Helped by California Renewable “Buy-Down” Program.  Installation subsidized by up to $4.50/w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Largest PV Building System in Nation at St. Rita Jail – 1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0M/year, 100 employees; contact John Sh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67480" y="5257800"/>
            <a:ext cx="12574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able Energy Finance Forum-Wall Str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-organized by ACORE and Euromoney Energy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U.S.-based Renewable Energy Associations Invol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empts to Coordinate of Renewable Industry Similar to Coal, Oil, and Nucl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note by Governor Pata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467480" y="52578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Speakers and their Affiliations Includ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ve Zwolinski, President, GE Wi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ce Braine, Vice President, American Electr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Riedy, Partner, Pillsbury Winthrop L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nathan Johns, Partner, Ernst &amp;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Ware, Managing Director, Advanced Capital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ven Sishaver, Director of Structure Finance, FPL Energy 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ven Greenwald, Managing Director for Global Finance, Credit Suisse First Bo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 Walker, Managing Director, Swiss 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cy Floyd, Director, Nth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 Deutsh, Director, PERSEUS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467480" y="52578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0:18:21Z</dcterms:created>
  <dc:creator>Pacific Int'l Center For High Technology Research</dc:creator>
  <dc:description/>
  <dc:language>en-US</dc:language>
  <cp:lastModifiedBy>Pacific Int'l Center For High Technology Research</cp:lastModifiedBy>
  <dcterms:modified xsi:type="dcterms:W3CDTF">2004-05-13T03:14:03Z</dcterms:modified>
  <cp:revision>8</cp:revision>
  <dc:subject/>
  <dc:title>APEC Renewable Energy Finance Forum</dc:title>
</cp:coreProperties>
</file>