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434BB-F7F5-4F82-8B35-7DFAA6BEB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C763-2F60-46CE-BB32-1C7CD00A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E1FE0-D9C7-4890-AB70-E3FEED56E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CB611-723A-4AEB-9B05-E36DCA8D5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9D2D-AB2E-4987-90CE-8084CD70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7690-E56C-477D-9034-9380F7C5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25908-E2A5-491B-A443-7D47E4156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2775-5C64-4849-A43F-9800D0AB0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FFE4-BCC9-44A6-93A6-82E19F04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44933-800D-4474-8A7A-442B2C6F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76F0-62BD-47A8-9F40-37652670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E97C-A405-4C5B-ADE4-B860FF9FD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4A04-E42F-4560-80D6-59FFB5D2B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EC ENERGY WORKING GROUP</a:t>
            </a:r>
            <a:br>
              <a:rPr sz="4000"/>
            </a:br>
            <a:r>
              <a:rPr b="1" lang="en-US" sz="4000" spc="-1" strike="noStrike">
                <a:solidFill>
                  <a:srgbClr val="000000"/>
                </a:solidFill>
                <a:latin typeface="Arial"/>
              </a:rPr>
              <a:t>FRAMEWORK PROPOSAL FOR</a:t>
            </a:r>
            <a:br>
              <a:rPr sz="4000"/>
            </a:br>
            <a:r>
              <a:rPr b="1" lang="en-US" sz="4000" spc="-1" strike="noStrike">
                <a:solidFill>
                  <a:srgbClr val="000000"/>
                </a:solidFill>
                <a:latin typeface="Arial"/>
              </a:rPr>
              <a:t>IMPLEMENTING</a:t>
            </a:r>
            <a:br>
              <a:rPr sz="4000"/>
            </a:br>
            <a:r>
              <a:rPr b="1" lang="en-US" sz="4000" spc="-1" strike="noStrike">
                <a:solidFill>
                  <a:srgbClr val="000000"/>
                </a:solidFill>
                <a:latin typeface="Arial"/>
              </a:rPr>
              <a:t>ENERGY INVESTMENT </a:t>
            </a:r>
            <a:br>
              <a:rPr sz="4000"/>
            </a:br>
            <a:r>
              <a:rPr b="1" lang="en-US" sz="4000" spc="-1" strike="noStrike">
                <a:solidFill>
                  <a:srgbClr val="000000"/>
                </a:solidFill>
                <a:latin typeface="Arial"/>
              </a:rPr>
              <a:t>RECOMMENDATIONS</a:t>
            </a:r>
            <a:br>
              <a:rPr sz="4000"/>
            </a:br>
            <a:r>
              <a:rPr b="1" lang="en-US" sz="4000" spc="-1" strike="noStrike">
                <a:solidFill>
                  <a:srgbClr val="000000"/>
                </a:solidFill>
                <a:latin typeface="Arial"/>
              </a:rPr>
              <a:t>(November 2004)</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240" y="5334120"/>
            <a:ext cx="5715000" cy="304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STERIAL DIRECTIV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th EMM, Energy Ministers directed the EWG:  “to implement the recommendations of the ‘Energy Investment Report: Facilitating Energy Investment in the APEC Region. .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EC Economic Leaders called on EWG in October, 2003 “to work with the private sector and financial institutions to facilitate greater investment in clean and more efficient energy infrastructure and technolog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commendations resulted from 3 financing workshops which carried out the direction of the APEC Economic Lead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efforts are part of the Longer-Term Measures to advance APEC’s Energy Security Initiati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ED FOR A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2020, energy trends indicate that total GDP in APEC expected to double and demand forecast to grow by 60 perc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for significant investments in energy infrastructure and an economic and environmental imperative to rationalize energy use through reducing energy demand and energy intens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funds will not be sufficient to meet the region’s energy requirements; Private capital must be mobilized and the risks and costs of investment reduc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s of investment in cleaner, more efficient energy manifold:  increased energy security, increased productivity/economic development and decreased energy-related environmental and health impa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withstanding benefits, workshops revealed that Energy Efficiency and Renewable Energy markets are underdeveloped relative to their market potential; Workshops also recognized that funding is available but is not getting to qualified proje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EC’s EWG can help to close gap between project development and financing; Entails public-private partnerships to address risks and costs; Focus on building local financial/commercial infrastructure to link private capital with project develop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ETING THE CHALLENG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help address challenge for significant investment and to rationalize energy use, this Framework Proposal recommends four steps for a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WG Task Force on Energy Efficiency and Renewable Financ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AT to Help Build Local Commercial Cap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s and Information Sharing Systems; 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ERGY EFFICIENCY AND RENEWABLE FINANCING TASK FORC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Develop New Business Models to Commercialize and Build Self-Sustaining Financing for Energy Efficiency and Renewable Projects that are smaller scale and have different risk profiles and higher investment hurdles than conventional energy proje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Functional Areas for Coordin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age Financial Institutions and Private Sector through EBN and Expert Grou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Supportive Policy and Regulatory Framework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Awareness of Benefits of EE/RE Systems and Expand Database and Information Sharing System Capability; a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Market Capacity and Mechanisms to Commercialize Financ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Force to assure maximum efforts and results; Contribute to a lasting developmental impact by building self-sustaining markets for financing these projec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AT PROGR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framework for IFAT technical assistance program to build local EE/RE finance expertise that can link private capital with qualified projects at lowest cost to project developers; Increase local financial sectors’ experience and capacity to provide project financing on an ongoing and eventually independent ba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 local financial institutions to evaluate financial and technical aspects of projects and use procedures to mitigate risk on a portfolio ba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ing and marketing specialized financial products/serv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tandardized tools and documents to mobilize capit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 project developers to structure bankable proje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profitable new business lines for participating financial institutions in host econom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SYST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 Database and Information Sharing Capability to make connections, educate and increase investment flow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Operational Account Proposals (EGEEC/EGRN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ergy Efficiency Database and Information Sharing System</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Studies on Best Practices and Lessons Learn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and Guidance on Tools for evaluating Energy Performanc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Guide on Energy Management Models and Benchmarking Tools; an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on of Energy Efficiency Recommendations into EWG Pledge and Review Program.</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EC-CPI and EWG Websit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on Best Practices/Lessons Learned; Financial Programs; Policies and Incentiv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Facility on Projects, Financing and Partner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Facilitation Network for Partnership Build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st Accounting Methods; Standardizing Terms of Reference for Technology Deploy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DEVELOPMENT</a:t>
            </a: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8001000" cy="39625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Funded Proposal by U.S. to scale-up EGEEC projects to build self-sustaining markets for financing EE/RE projects.  Key components:</a:t>
            </a:r>
            <a:endParaRPr b="0" lang="en-US" sz="1600" spc="-1" strike="noStrike">
              <a:solidFill>
                <a:srgbClr val="000000"/>
              </a:solidFill>
              <a:latin typeface="Arial"/>
            </a:endParaRPr>
          </a:p>
          <a:p>
            <a:pPr lvl="1" marL="683280" indent="-262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 Intermediaries/Special Purpose Entities to develop and use standardized tools and documents and specialized products to raise capital at lowest cost to project developers; Provide replicable financial structures for raising capital to accelerate project development and increase investment into economies;</a:t>
            </a:r>
            <a:endParaRPr b="0" lang="en-US" sz="1600" spc="-1" strike="noStrike">
              <a:solidFill>
                <a:srgbClr val="000000"/>
              </a:solidFill>
              <a:latin typeface="Arial"/>
            </a:endParaRPr>
          </a:p>
          <a:p>
            <a:pPr lvl="1" marL="683280" indent="-262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ve Public-Private Sector Financing to develop opportunities for innovative underwriting of efficiency improvements to public facilities;</a:t>
            </a:r>
            <a:endParaRPr b="0" lang="en-US" sz="1600" spc="-1" strike="noStrike">
              <a:solidFill>
                <a:srgbClr val="000000"/>
              </a:solidFill>
              <a:latin typeface="Arial"/>
            </a:endParaRPr>
          </a:p>
          <a:p>
            <a:pPr lvl="1" marL="683280" indent="-262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ital Market Facilities to Incentivize EE/RE Lending:  Incentives to bring down the cost of capital, extend financing terms and guarantee loans for banks, e.g., finance guarantee facilities, public benefit funds, standardizing small-scale distributed energy projects by securitizing accounts receivable.</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LF Account Proposal to Standardize Financing Procedures and Transactions.  Key components:</a:t>
            </a:r>
            <a:endParaRPr b="0" lang="en-US" sz="1600" spc="-1" strike="noStrike">
              <a:solidFill>
                <a:srgbClr val="000000"/>
              </a:solidFill>
              <a:latin typeface="Arial"/>
            </a:endParaRPr>
          </a:p>
          <a:p>
            <a:pPr lvl="1" marL="683280" indent="-262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 methods and procedures for financing to enable long-term financing on a “cash-flow” basis;</a:t>
            </a:r>
            <a:endParaRPr b="0" lang="en-US" sz="1600" spc="-1" strike="noStrike">
              <a:solidFill>
                <a:srgbClr val="000000"/>
              </a:solidFill>
              <a:latin typeface="Arial"/>
            </a:endParaRPr>
          </a:p>
          <a:p>
            <a:pPr lvl="2" marL="1051560" indent="-210240">
              <a:lnSpc>
                <a:spcPct val="80000"/>
              </a:lnSpc>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ize tools/procedures for measuring and verifying energy performance to support non-asset based financing and to increase return on investment.</a:t>
            </a:r>
            <a:endParaRPr b="0" lang="en-US" sz="1600" spc="-1" strike="noStrike">
              <a:solidFill>
                <a:srgbClr val="000000"/>
              </a:solidFill>
              <a:latin typeface="Arial"/>
            </a:endParaRPr>
          </a:p>
          <a:p>
            <a:pPr lvl="1" marL="683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arry out APEC Energy Ministers directive to implement EE/RE Project Financing Recommendations, Recomm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rse Proposals at this Meeting t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stablish Energy Efficiency and Renewable Financing Task Force; a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velop Framework for IFAT Program to Build Local Commercial Cap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and Endorse Out-Of-Session Self-Funded Proposal to Build Self-Sustaining Financial Structures Based on EGEEC Proje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at next EWG Meeting Project Proposals for Fund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erational Account Proposals to Expand Information Syste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LF Account Proposal to Standardize Financing Transactions and Methods for Measuring Energy Performance and Emissions Redu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21:10:28Z</dcterms:created>
  <dc:creator>Cary Bloyd</dc:creator>
  <dc:description/>
  <dc:language>en-US</dc:language>
  <cp:lastModifiedBy>USER</cp:lastModifiedBy>
  <dcterms:modified xsi:type="dcterms:W3CDTF">2004-11-11T03:28:14Z</dcterms:modified>
  <cp:revision>4</cp:revision>
  <dc:subject/>
  <dc:title>APEC ENERGY WORKING GROUP FRAMEWORK PROPOSAL FOR IMPLEMENTING ENERGY INVESTMENT  RECOMMENDATIONS (November 2004)</dc:title>
</cp:coreProperties>
</file>