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4F75-925A-4554-8EEA-109D28BA3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FC2D-685F-4C91-A77B-B2B79D522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7755-D27A-4E7A-B284-36562E3AD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981F-7A83-480C-842E-C02139923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B4C2-96BC-42FC-8455-395E9AFFFC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E37-32AE-4566-9611-2891228846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101-ED70-4422-966E-B368667289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055D-E152-4D73-95D4-CE892E1F3E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3C0-EC04-491D-B345-6CA72C4636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388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BB7-B378-4B1A-85C7-7287BA9D67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F6BA-63CA-4721-A8F5-9EECFA4468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02AB-A23E-4BDA-BDA2-46B8BB87A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317-31D6-4D7B-8552-B61412A2B1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032-73F7-45B7-9193-BAB092C376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0E9-EA51-437F-8B8C-F612ED6CC5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649E-BB6B-44A6-AA35-F4DCD641AC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584-4822-4FE7-9FD8-0653E8E2D6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0F0C-4D5C-4C4B-830C-D96025554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A4F3D-314E-45E4-9B5C-FF55CD4B7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D727-1926-41EB-87C2-DBBADFDE7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837F-91A6-4DF6-B0C9-11680B741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5DEC7-DC48-4B5D-9454-A41E9561D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4E3A-394B-4FE2-A942-7D1923DAC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39EB-716A-4FF8-B036-B28261E8C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24480" y="6477120"/>
            <a:ext cx="239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6430-A4A3-46FA-B6B0-E0AF59BF28D7}" type="slidenum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56840" y="647712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08080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Arial"/>
                <a:ea typeface="MS PGothic"/>
              </a:rPr>
              <a:t>&lt;footer&gt;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  <a:ea typeface="MS PGothic"/>
              </a:rPr>
              <a:t>Asia Pacific Energy Research Cen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304920" cy="684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c88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96b5e2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3"/>
          </p:nvPr>
        </p:nvSpPr>
        <p:spPr>
          <a:xfrm>
            <a:off x="7099200" y="6477120"/>
            <a:ext cx="239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C9DB-C685-4CA4-AD66-738F0C6D39E4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304920" cy="6846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534600" y="647712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APEC"/>
          <p:cNvPicPr/>
          <p:nvPr/>
        </p:nvPicPr>
        <p:blipFill>
          <a:blip r:embed="rId3"/>
          <a:stretch/>
        </p:blipFill>
        <p:spPr>
          <a:xfrm>
            <a:off x="762120" y="5105520"/>
            <a:ext cx="1981080" cy="1079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19520" y="56386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  <a:ea typeface="MS PGothic"/>
              </a:rPr>
              <a:t>Asia Pacific Energy Research 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96b5e2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4880" y="837720"/>
            <a:ext cx="7848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5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New and Renewable Energy in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MS PGothic"/>
              </a:rPr>
              <a:t> the APEC Region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Prospects For Electricity Gener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53341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Jaya Singam Raj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35440" y="3130560"/>
            <a:ext cx="7814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PEC New and Renewable Energy Technologies Expert Group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wenty-Third Meet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0-13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861840" y="1295280"/>
          <a:ext cx="8182080" cy="525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1295280"/>
                    <a:ext cx="8182080" cy="525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853400" y="4902120"/>
            <a:ext cx="1817640" cy="766800"/>
          </a:xfrm>
          <a:prstGeom prst="wedgeRoundRectCallout">
            <a:avLst>
              <a:gd name="adj1" fmla="val -72611"/>
              <a:gd name="adj2" fmla="val 278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  <a:ea typeface="Gulim"/>
              </a:rPr>
              <a:t>Biomass takes substantial s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92920" y="2187720"/>
            <a:ext cx="1979640" cy="974520"/>
          </a:xfrm>
          <a:prstGeom prst="wedgeRoundRectCallout">
            <a:avLst>
              <a:gd name="adj1" fmla="val -67115"/>
              <a:gd name="adj2" fmla="val 7915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  <a:ea typeface="Gulim"/>
              </a:rPr>
              <a:t>Wind would remain the fastest growing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6360" y="609120"/>
            <a:ext cx="923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Tahoma"/>
                <a:ea typeface="MS PGothic"/>
              </a:rPr>
              <a:t>Scenario Analysis – Reference  Scenario </a:t>
            </a:r>
            <a:r>
              <a:rPr b="1" lang="en-US" sz="2100" spc="-1" strike="noStrike">
                <a:solidFill>
                  <a:srgbClr val="000099"/>
                </a:solidFill>
                <a:latin typeface="Tahoma"/>
                <a:ea typeface="MS PGothic"/>
              </a:rPr>
              <a:t>  </a:t>
            </a:r>
            <a:endParaRPr b="1" lang="en-US" sz="2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48960" y="144360"/>
            <a:ext cx="537228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ahoma"/>
                <a:ea typeface="MS PGothic"/>
              </a:rPr>
              <a:t>SCENARIO ANALYSIS 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955800"/>
            <a:ext cx="6222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Gulim"/>
              </a:rPr>
              <a:t>40% NRE SHARE BY 2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85760" y="1295280"/>
          <a:ext cx="746784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5760" y="1295280"/>
                    <a:ext cx="74678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703520" y="2133720"/>
            <a:ext cx="2744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  <a:ea typeface="Gulim"/>
              </a:rPr>
              <a:t>EARLY NRE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  <a:ea typeface="Guli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Tahoma"/>
                <a:ea typeface="Gulim"/>
              </a:rPr>
              <a:t>STARTING (2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8520" y="2133720"/>
            <a:ext cx="1944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  <a:ea typeface="Gulim"/>
              </a:rPr>
              <a:t>LATE NRE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  <a:ea typeface="Guli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Tahoma"/>
                <a:ea typeface="Gulim"/>
              </a:rPr>
              <a:t>STARTING (202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520" y="5996160"/>
            <a:ext cx="865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Gulim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Gulim"/>
              </a:rPr>
              <a:t>Impact on fuel and C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  <a:ea typeface="Gulim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Gulim"/>
              </a:rPr>
              <a:t> e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09480" y="1676520"/>
          <a:ext cx="8350200" cy="42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35020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7560" y="483840"/>
            <a:ext cx="88776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ahoma"/>
                <a:ea typeface="MS PGothic"/>
              </a:rPr>
              <a:t>SCENARIO Analysis</a:t>
            </a:r>
            <a:r>
              <a:rPr b="1" lang="en-US" sz="2100" spc="-1" strike="noStrike">
                <a:solidFill>
                  <a:srgbClr val="3333cc"/>
                </a:solidFill>
                <a:latin typeface="Tahoma"/>
                <a:ea typeface="MS PGothic"/>
              </a:rPr>
              <a:t> </a:t>
            </a:r>
            <a:br>
              <a:rPr sz="2100"/>
            </a:br>
            <a:r>
              <a:rPr b="0" lang="en-US" sz="2100" spc="-1" strike="noStrike">
                <a:solidFill>
                  <a:srgbClr val="3333cc"/>
                </a:solidFill>
                <a:latin typeface="Tahoma"/>
                <a:ea typeface="MS PGothic"/>
              </a:rPr>
              <a:t>POWER GENERATION BY FUEL</a:t>
            </a:r>
            <a:endParaRPr b="1" lang="en-US" sz="2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447480"/>
            <a:ext cx="887724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ahoma"/>
                <a:ea typeface="MS PGothic"/>
              </a:rPr>
              <a:t>SCENARIO Analysis</a:t>
            </a:r>
            <a:r>
              <a:rPr b="1" lang="en-US" sz="2100" spc="-1" strike="noStrike">
                <a:solidFill>
                  <a:srgbClr val="3333cc"/>
                </a:solidFill>
                <a:latin typeface="Tahoma"/>
                <a:ea typeface="MS PGothic"/>
              </a:rPr>
              <a:t> </a:t>
            </a:r>
            <a:br>
              <a:rPr sz="2100"/>
            </a:br>
            <a:r>
              <a:rPr b="0" lang="en-US" sz="2100" spc="-1" strike="noStrike">
                <a:solidFill>
                  <a:srgbClr val="3333cc"/>
                </a:solidFill>
                <a:latin typeface="Tahoma"/>
                <a:ea typeface="MS PGothic"/>
              </a:rPr>
              <a:t>POWER GENERATION BY FUEL</a:t>
            </a:r>
            <a:endParaRPr b="1" lang="en-US" sz="21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0720" y="1795320"/>
          <a:ext cx="8802720" cy="46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1795320"/>
                    <a:ext cx="880272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428400"/>
            <a:ext cx="887724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ahoma"/>
                <a:ea typeface="MS PGothic"/>
              </a:rPr>
              <a:t>SCENARIO ANALYSIS</a:t>
            </a:r>
            <a:br>
              <a:rPr sz="2100"/>
            </a:br>
            <a:r>
              <a:rPr b="0" lang="en-US" sz="2100" spc="-1" strike="noStrike">
                <a:solidFill>
                  <a:srgbClr val="3333cc"/>
                </a:solidFill>
                <a:latin typeface="Tahoma"/>
                <a:ea typeface="MS PGothic"/>
              </a:rPr>
              <a:t>GHG EMISSIONS</a:t>
            </a:r>
            <a:r>
              <a:rPr b="1" lang="en-US" sz="2100" spc="-1" strike="noStrike">
                <a:solidFill>
                  <a:srgbClr val="3333cc"/>
                </a:solidFill>
                <a:latin typeface="Tahoma"/>
                <a:ea typeface="MS PGothic"/>
              </a:rPr>
              <a:t> </a:t>
            </a:r>
            <a:endParaRPr b="1" lang="en-US" sz="21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98400" y="1590840"/>
          <a:ext cx="8359920" cy="46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590840"/>
                    <a:ext cx="835992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6080" y="44280"/>
            <a:ext cx="8877240" cy="10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ahoma"/>
                <a:ea typeface="MS PGothic"/>
              </a:rPr>
              <a:t>SCENARIO ANALYSIS 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1480" y="1314360"/>
          <a:ext cx="78487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1314360"/>
                    <a:ext cx="7848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8183520" y="2571840"/>
            <a:ext cx="371520" cy="1952640"/>
          </a:xfrm>
          <a:custGeom>
            <a:avLst/>
            <a:gdLst>
              <a:gd name="textAreaLeft" fmla="*/ 0 w 371520"/>
              <a:gd name="textAreaRight" fmla="*/ 134280 w 371520"/>
              <a:gd name="textAreaTop" fmla="*/ 34200 h 1952640"/>
              <a:gd name="textAreaBottom" fmla="*/ 1918440 h 19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8"/>
                  <a:pt x="10800" y="1216"/>
                </a:cubicBezTo>
                <a:lnTo>
                  <a:pt x="10800" y="9584"/>
                </a:lnTo>
                <a:cubicBezTo>
                  <a:pt x="10800" y="10192"/>
                  <a:pt x="16200" y="10800"/>
                  <a:pt x="21600" y="10800"/>
                </a:cubicBezTo>
                <a:cubicBezTo>
                  <a:pt x="16200" y="10800"/>
                  <a:pt x="10800" y="11408"/>
                  <a:pt x="10800" y="12016"/>
                </a:cubicBezTo>
                <a:lnTo>
                  <a:pt x="10800" y="20384"/>
                </a:lnTo>
                <a:cubicBezTo>
                  <a:pt x="10800" y="20992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96440" y="3219480"/>
            <a:ext cx="1309680" cy="61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  <a:ea typeface="Gulim"/>
              </a:rPr>
              <a:t>US$ 2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  <a:ea typeface="Gulim"/>
              </a:rPr>
              <a:t>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2600" y="611280"/>
            <a:ext cx="86662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99"/>
                </a:solidFill>
                <a:latin typeface="Tahoma"/>
                <a:ea typeface="MS PGothic"/>
              </a:rPr>
              <a:t>Conclusions</a:t>
            </a: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9360" y="1200240"/>
            <a:ext cx="9296280" cy="3547800"/>
          </a:xfrm>
          <a:prstGeom prst="rect">
            <a:avLst/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Gulim"/>
              </a:rPr>
              <a:t>MARKET DRIVEN ENERGY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9080" y="4457880"/>
            <a:ext cx="9297720" cy="20646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  <a:ea typeface="Gulim"/>
              </a:rPr>
              <a:t>POLICY DRIVEN ENERGY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1480" y="5400720"/>
            <a:ext cx="10321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Gulim"/>
              </a:rPr>
              <a:t>P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48560" y="1866960"/>
            <a:ext cx="2084400" cy="1323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Gulim"/>
              </a:rPr>
              <a:t>C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3480" y="5467320"/>
            <a:ext cx="1536840" cy="368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Gulim"/>
              </a:rPr>
              <a:t>NU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600">
            <a:off x="6941520" y="3494520"/>
            <a:ext cx="395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Gulim"/>
              </a:rPr>
              <a:t>FULLY COMMER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-978120" y="3311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Gulim"/>
              </a:rPr>
              <a:t>UNDE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51480" y="1704960"/>
            <a:ext cx="401400" cy="4200480"/>
          </a:xfrm>
          <a:prstGeom prst="upArrow">
            <a:avLst>
              <a:gd name="adj1" fmla="val 49657"/>
              <a:gd name="adj2" fmla="val 1010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4480" y="4905360"/>
            <a:ext cx="16398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Gulim"/>
              </a:rPr>
              <a:t>W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05400" y="2538360"/>
            <a:ext cx="1764000" cy="94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t">
            <a:spAutoFit/>
          </a:bodyPr>
          <a:p>
            <a:pPr algn="ctr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Gulim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3552840"/>
            <a:ext cx="6718320" cy="419040"/>
          </a:xfrm>
          <a:prstGeom prst="rightArrow">
            <a:avLst>
              <a:gd name="adj1" fmla="val 40907"/>
              <a:gd name="adj2" fmla="val 1174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51480" y="4486320"/>
            <a:ext cx="182556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Gulim"/>
              </a:rPr>
              <a:t>GEOTHE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92520" y="3971880"/>
            <a:ext cx="196056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Gulim"/>
              </a:rPr>
              <a:t>BIO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32360" y="3067200"/>
            <a:ext cx="1579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Gulim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Gulim"/>
              </a:rPr>
              <a:t>OI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5760" y="4457880"/>
            <a:ext cx="1785960" cy="581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Gulim"/>
              </a:rPr>
              <a:t>HYD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41594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cc"/>
                </a:solidFill>
                <a:latin typeface="Tahoma"/>
                <a:ea typeface="MS PGothic"/>
              </a:rPr>
              <a:t>Policy Op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440" y="1752480"/>
            <a:ext cx="86072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Tahoma"/>
              </a:rPr>
              <a:t>Demand Pull Strateg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Tahoma"/>
              </a:rPr>
              <a:t>Financial Incen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Tahoma"/>
              </a:rPr>
              <a:t>Market Facilitation and Invest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Tahoma"/>
              </a:rPr>
              <a:t>Rural Electrification Poli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Tahoma"/>
              </a:rPr>
              <a:t>Distributed Generation Poli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4160" y="151920"/>
            <a:ext cx="31683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cc"/>
                </a:solidFill>
                <a:latin typeface="Tahoma"/>
                <a:ea typeface="MS PGothic"/>
              </a:rPr>
              <a:t>Policy Op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0200"/>
            <a:ext cx="883908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ahoma"/>
              </a:rPr>
              <a:t>Demand Pull Strateg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Renewable Portfolio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Non-Fossil-Fuel-Obligation (UK, 1990-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Feed-in Tariffs (resulted in 8,500MW of installed wind from 1991-2001 in Germ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Green certificate (US, Australia, Japan, UK, Denmark &amp;   Belg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22440" y="1219320"/>
            <a:ext cx="928368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ahoma"/>
              </a:rPr>
              <a:t>Financial incen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Subsidies and rebates (Sunshine Programme -Japan, “Million solar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roofs”- 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Tax relief (Investment tax credits, accelerated depreciation,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production tax credits, property tax incentives, personal income tax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incentives, sales tax incentives, pollution tax exemptions, etc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Gra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Loans  (varies in amount – residential,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commercial and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industria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cc"/>
                </a:solidFill>
                <a:latin typeface="Tahoma"/>
                <a:ea typeface="MS PGothic"/>
              </a:rPr>
              <a:t>Policy Op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cc"/>
                </a:solidFill>
                <a:latin typeface="Tahoma"/>
                <a:ea typeface="MS PGothic"/>
              </a:rPr>
              <a:t>Outlin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MS PGothic"/>
              </a:rPr>
              <a:t>Backgr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MS PGothic"/>
              </a:rPr>
              <a:t>Key findings of current study – NRE in APEC Reg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c88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NRE’s Status in APEC Reg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c88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Scenario analysis resul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MS PGothic"/>
              </a:rPr>
              <a:t>Policy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MS PGothic"/>
              </a:rPr>
              <a:t>New Study - Renewable Electricity in APEC Reg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c88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Objectiv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c88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Socio-economic benefits of NR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c88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MS PGothic"/>
              </a:rPr>
              <a:t>Indicator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22440" y="1568520"/>
            <a:ext cx="8750160" cy="35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Tahoma"/>
              </a:rPr>
              <a:t>Market facilitation and investmen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Carbon tax, System Benefits Char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NRE access laws (allows property owners to access NRE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resour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Infrastructure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Government procureme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Public awareness 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cc"/>
                </a:solidFill>
                <a:latin typeface="Tahoma"/>
                <a:ea typeface="MS PGothic"/>
              </a:rPr>
              <a:t>Policy Op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74720" y="1562040"/>
            <a:ext cx="806436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Rural Electrification Policy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Energy Service Con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Microcredit and Rural Business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Line extension Analy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cc"/>
                </a:solidFill>
                <a:latin typeface="Tahoma"/>
                <a:ea typeface="MS PGothic"/>
              </a:rPr>
              <a:t>Policy Op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08240" y="1562040"/>
            <a:ext cx="745488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Tahoma"/>
              </a:rPr>
              <a:t>Distributed Generation Polic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Real-time pr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Net me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Interconnection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cc"/>
                </a:solidFill>
                <a:latin typeface="Tahoma"/>
                <a:ea typeface="MS PGothic"/>
              </a:rPr>
              <a:t>Policy Op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4120" y="260280"/>
            <a:ext cx="8665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33cc"/>
                </a:solidFill>
                <a:latin typeface="Tahoma"/>
                <a:ea typeface="MS PGothic"/>
              </a:rPr>
              <a:t>Conclusions</a:t>
            </a: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280" y="1413000"/>
            <a:ext cx="916308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Enabling policies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mand pull strategy – RPS, Feed-in-Tariff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nancial Incentives – Various incentives/subsidy, tax relief, grants, loan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istributed generation – net metering, real time pric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arket facilitation – SBC, carbon tax, government procuremen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RE resources – to include in national energy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5240" y="1486080"/>
            <a:ext cx="9575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veloping economi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)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dopting innovative financing mechanisms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.g. Worldbank/GEF PERMER in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i)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veloping local manufacturing capacity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 components of NRE technology like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Vs, e.g. China, India, Thailand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ii)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moving/reducing subsidies on fossil fuels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  improve NRE’s competi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400" y="476280"/>
            <a:ext cx="86662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33cc"/>
                </a:solidFill>
                <a:latin typeface="Tahoma"/>
                <a:ea typeface="MS PGothic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5240" y="1476360"/>
            <a:ext cx="957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v)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mprove legal and regulatory framework to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ddress intellectual property rights issues,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s well as improve the tax system  to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ncourage developed economies to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ansfer NRE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4120" y="637920"/>
            <a:ext cx="8665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99"/>
                </a:solidFill>
                <a:latin typeface="Tahoma"/>
                <a:ea typeface="MS PGothic"/>
              </a:rPr>
              <a:t>Conclusions</a:t>
            </a: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39960" y="2219400"/>
            <a:ext cx="7323120" cy="14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cc"/>
                </a:solidFill>
                <a:latin typeface="Tahoma"/>
              </a:rPr>
              <a:t>Part II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cc"/>
                </a:solidFill>
                <a:latin typeface="Tahoma"/>
              </a:rPr>
              <a:t>Renewable Electricity in the APEC Reg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76440" y="17146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2920" y="1438200"/>
            <a:ext cx="91216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  <a:ea typeface="MS Mincho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  <a:ea typeface="MS Mincho"/>
              </a:rPr>
              <a:t>Assessing the real cost of electricity from renewable     sources and conventional fu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  <a:ea typeface="MS Mincho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  <a:ea typeface="MS Mincho"/>
              </a:rPr>
              <a:t>Quantifying externalities - emissions from electricity generation and its impacts (Health, Air pollution, Water and land pollution, Thermal pollution, Global warming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  <a:ea typeface="MS Mincho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  <a:ea typeface="MS Mincho"/>
              </a:rPr>
              <a:t>Different types of subsidy received by conventional energy producer and its imp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82120" y="485280"/>
            <a:ext cx="866628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99"/>
                </a:solidFill>
                <a:latin typeface="Tahoma"/>
                <a:ea typeface="MS PGothic"/>
              </a:rPr>
              <a:t>Objectives and Scope  </a:t>
            </a: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47680" y="152280"/>
            <a:ext cx="9163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cc"/>
                </a:solidFill>
                <a:latin typeface="Arial"/>
              </a:rPr>
              <a:t>Key Issu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2600" y="1236600"/>
            <a:ext cx="89154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Mincho"/>
              </a:rPr>
              <a:t>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Mincho"/>
              </a:rPr>
              <a:t>	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Mincho"/>
              </a:rPr>
              <a:t>Real Costs of electricit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Mincho"/>
              </a:rPr>
              <a:t>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Mincho"/>
              </a:rPr>
              <a:t>	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Mincho"/>
              </a:rPr>
              <a:t>Subsidy for NRE &amp; conventional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Mincho"/>
              </a:rPr>
              <a:t>	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Mincho"/>
              </a:rPr>
              <a:t>Socio-economic benefits of renewable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Mincho"/>
              </a:rPr>
              <a:t>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Mincho"/>
              </a:rPr>
              <a:t>	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Mincho"/>
              </a:rPr>
              <a:t>Externalities – Negative impacts of fossil fuel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Mincho"/>
              </a:rPr>
              <a:t>	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Mincho"/>
              </a:rPr>
              <a:t>combu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Mincho"/>
              </a:rPr>
              <a:t>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Mincho"/>
              </a:rPr>
              <a:t>	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Mincho"/>
              </a:rPr>
              <a:t>Measuring extern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Mincho"/>
              </a:rPr>
              <a:t> 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Mincho"/>
              </a:rPr>
              <a:t>	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Mincho"/>
              </a:rPr>
              <a:t>Modelling renewable energy</a:t>
            </a:r>
            <a:r>
              <a:rPr b="0" lang="en-GB" sz="2800" spc="-1" strike="noStrike">
                <a:solidFill>
                  <a:srgbClr val="0033cc"/>
                </a:solidFill>
                <a:latin typeface="Arial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47680" y="152280"/>
            <a:ext cx="9163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cc"/>
                </a:solidFill>
                <a:latin typeface="Arial"/>
              </a:rPr>
              <a:t>Indicators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0" b="29337"/>
          <a:stretch/>
        </p:blipFill>
        <p:spPr>
          <a:xfrm>
            <a:off x="533520" y="1087560"/>
            <a:ext cx="883908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  <a:ea typeface="MS PGothic"/>
              </a:rPr>
              <a:t>Backgroun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MS PGothic"/>
              </a:rPr>
              <a:t>APEC Energy Ministers’ conce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c88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  <a:ea typeface="MS PGothic"/>
              </a:rPr>
              <a:t>The significance of new and renewable energy has been stressed by the APEC Energy Ministers from the 1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  <a:ea typeface="MS PGothic"/>
              </a:rPr>
              <a:t>st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  <a:ea typeface="MS PGothic"/>
              </a:rPr>
              <a:t> Energy Minister’s Meeting held in Sydney, Australia in 1996 to the 6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  <a:ea typeface="MS PGothic"/>
              </a:rPr>
              <a:t>th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  <a:ea typeface="MS PGothic"/>
              </a:rPr>
              <a:t> Meeting held in Manila 2004  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6b5e2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Verdana"/>
                <a:ea typeface="MS PGothic"/>
              </a:rPr>
              <a:t>“</a:t>
            </a:r>
            <a:r>
              <a:rPr b="0" i="1" lang="en-US" sz="2000" spc="-1" strike="noStrike">
                <a:solidFill>
                  <a:srgbClr val="008000"/>
                </a:solidFill>
                <a:latin typeface="Verdana"/>
                <a:ea typeface="MS PGothic"/>
              </a:rPr>
              <a:t>Energy diversification broadens our choice of energy sources and technologies and… increased development and deployment of renewable energy technologi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  <a:ea typeface="MS PGothic"/>
              </a:rPr>
              <a:t>APEC Energy Minister’s Meeting, Manila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MS P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47680" y="152280"/>
            <a:ext cx="9163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cc"/>
                </a:solidFill>
                <a:latin typeface="Arial"/>
              </a:rPr>
              <a:t>Indicators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0" r="0" b="1921"/>
          <a:stretch/>
        </p:blipFill>
        <p:spPr>
          <a:xfrm>
            <a:off x="560520" y="907920"/>
            <a:ext cx="8839080" cy="49546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3520" y="5867280"/>
            <a:ext cx="289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Gulim"/>
              </a:rPr>
              <a:t>Source :WRI, Indicator Framework Paper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2460" t="6232" r="2946" b="19541"/>
          <a:stretch/>
        </p:blipFill>
        <p:spPr>
          <a:xfrm>
            <a:off x="399960" y="1308240"/>
            <a:ext cx="9058320" cy="4136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12920" y="304920"/>
            <a:ext cx="91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he cost of annual energy subsidies (1995-98, $US bill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720" y="5448240"/>
            <a:ext cx="8502840" cy="7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tes: a) Subsidies for electricity in OECD countries have been attributed to fossil fuels according the shar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) Subsidies from non-payments and bail out operations have not been attributed to energy 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urce: de Moor, 2001, and WRI, CAIT (for GDP numb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  <a:ea typeface="MS PGothic"/>
              </a:rPr>
              <a:t>APERC’s Research Activities related to NR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5c88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MS PGothic"/>
              </a:rPr>
              <a:t>Energy Demand and Supply Outlook (1998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c88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MS PGothic"/>
              </a:rPr>
              <a:t>Sustainable Electricity Supply Options for the APEC Region (2001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c88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MS PGothic"/>
              </a:rPr>
              <a:t>Making the Clean Development Mechanisms Work (2001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c88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MS PGothic"/>
              </a:rPr>
              <a:t>Energy Demand and Supply Outlook  (2002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c88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MS PGothic"/>
              </a:rPr>
              <a:t>Alternative Development Scenarios for Electricity and Transport to 2020 (2002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  <a:ea typeface="MS PGothic"/>
              </a:rPr>
              <a:t>Scop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2320" y="1746360"/>
            <a:ext cx="746928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63180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  <a:ea typeface="MS Mincho"/>
              </a:rPr>
              <a:t>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63180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  <a:ea typeface="MS Mincho"/>
              </a:rPr>
              <a:t>Solar – Photovolta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63180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  <a:ea typeface="MS Mincho"/>
              </a:rPr>
              <a:t>Geothe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63180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  <a:ea typeface="MS Mincho"/>
              </a:rPr>
              <a:t>Bio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63180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  <a:ea typeface="MS Mincho"/>
              </a:rPr>
              <a:t>Small Hyd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  <a:ea typeface="MS PGothic"/>
              </a:rPr>
              <a:t>Wind – current statu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6640" y="1539720"/>
            <a:ext cx="856296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631800"/>
                <a:tab algn="l" pos="744480"/>
                <a:tab algn="l" pos="914400"/>
                <a:tab algn="l" pos="119700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Gulim"/>
              </a:rPr>
              <a:t>The cost of wind power in favourable wind regime declined by 47% between 1990 and 2000 and may decline another 38% by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631800"/>
                <a:tab algn="l" pos="744480"/>
                <a:tab algn="l" pos="914400"/>
                <a:tab algn="l" pos="119700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Wind capacity grew 14% annually in APEC and 33% per year globally from 1993-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ts val="2599"/>
              </a:lnSpc>
              <a:spcBef>
                <a:spcPts val="11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631800"/>
                <a:tab algn="l" pos="744480"/>
                <a:tab algn="l" pos="914400"/>
                <a:tab algn="l" pos="119700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MS Mincho"/>
              </a:rPr>
              <a:t>Highest annual growth in New Zealand with 67% (albeit small base) followed by Japan-54%, Australia-44%, Canada-32% and China-29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ts val="2599"/>
              </a:lnSpc>
              <a:spcBef>
                <a:spcPts val="11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631800"/>
                <a:tab algn="l" pos="744480"/>
                <a:tab algn="l" pos="914400"/>
                <a:tab algn="l" pos="119700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  <a:ea typeface="MS PGothic"/>
              </a:rPr>
              <a:t>Photovoltaics – current statu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8440" y="1633680"/>
            <a:ext cx="8921520" cy="43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MS PGothic"/>
              </a:rPr>
              <a:t>Annual growth rate of about 33% from 1971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MS PGothic"/>
              </a:rPr>
              <a:t>Costs are still very high (~ US$0.60 per kWh) but are expected to decline substantially to US$0.13 in 2025 &amp; US$0.09 by 20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MS PGothic"/>
              </a:rPr>
              <a:t>Mostly utilised for off-grid applications (e.g. highway lighting, remote villages) except for Japan &amp; EU econom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MS PGothic"/>
              </a:rPr>
              <a:t>Distributed rooftop applications – huge in Japan and will be the next major market by reducing balance of system costs by combining PV modules with roof 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69880" y="1468440"/>
            <a:ext cx="8637480" cy="4956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8520" y="333360"/>
            <a:ext cx="92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  <a:ea typeface="Gulim"/>
              </a:rPr>
              <a:t>Geothermal Installed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3800" y="1743120"/>
            <a:ext cx="14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4600" y="606600"/>
            <a:ext cx="845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ahoma"/>
                <a:ea typeface="Gulim"/>
              </a:rPr>
              <a:t>Hydro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2680" y="6297480"/>
            <a:ext cx="3487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Garamond"/>
                <a:ea typeface="MS PGothic"/>
              </a:rPr>
              <a:t>Source:  WEC – Survey of Energy Resources 2001.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2920" y="1378080"/>
            <a:ext cx="9065880" cy="4906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5:46:46Z</dcterms:created>
  <dc:creator>Jaya Singam Rajoo</dc:creator>
  <dc:description/>
  <dc:language>en-US</dc:language>
  <cp:lastModifiedBy>JSR</cp:lastModifiedBy>
  <dcterms:modified xsi:type="dcterms:W3CDTF">2004-11-09T11:21:20Z</dcterms:modified>
  <cp:revision>112</cp:revision>
  <dc:subject/>
  <dc:title>23rd EGNRET</dc:title>
</cp:coreProperties>
</file>