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ftr" idx="1"/>
          </p:nvPr>
        </p:nvSpPr>
        <p:spPr>
          <a:xfrm>
            <a:off x="609480" y="6248520"/>
            <a:ext cx="7848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xpert Group on New and Renewable Energy Technologies (EGNRET)</a:t>
            </a:r>
            <a:endParaRPr b="0" lang="en-US" sz="1400" spc="-1" strike="noStrike">
              <a:solidFill>
                <a:srgbClr val="000000"/>
              </a:solidFill>
              <a:latin typeface="Times New Roman"/>
            </a:endParaRPr>
          </a:p>
        </p:txBody>
      </p:sp>
      <p:pic>
        <p:nvPicPr>
          <p:cNvPr id="2" name="banner" descr=""/>
          <p:cNvPicPr/>
          <p:nvPr/>
        </p:nvPicPr>
        <p:blipFill>
          <a:blip r:embed="rId2"/>
          <a:stretch/>
        </p:blipFill>
        <p:spPr>
          <a:xfrm>
            <a:off x="380880" y="76320"/>
            <a:ext cx="5943600" cy="623880"/>
          </a:xfrm>
          <a:prstGeom prst="rect">
            <a:avLst/>
          </a:prstGeom>
          <a:ln w="0">
            <a:noFill/>
          </a:ln>
        </p:spPr>
      </p:pic>
      <p:sp>
        <p:nvSpPr>
          <p:cNvPr id="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1294920"/>
            <a:ext cx="7848720" cy="129564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EC 2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Century Renewable Energy Development Initiative</a:t>
            </a:r>
            <a:endParaRPr b="0" lang="en-US" sz="2400" spc="-1" strike="noStrike">
              <a:solidFill>
                <a:srgbClr val="000000"/>
              </a:solidFill>
              <a:latin typeface="Times New Roman"/>
            </a:endParaRPr>
          </a:p>
        </p:txBody>
      </p:sp>
      <p:sp>
        <p:nvSpPr>
          <p:cNvPr id="41" name="PlaceHolder 2"/>
          <p:cNvSpPr>
            <a:spLocks noGrp="1"/>
          </p:cNvSpPr>
          <p:nvPr>
            <p:ph type="subTitle"/>
          </p:nvPr>
        </p:nvSpPr>
        <p:spPr>
          <a:xfrm>
            <a:off x="129528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y Bloy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gonne National Laborator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NRET-20</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oul, Kore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ollaborative IV: Renewable-Energy Standards: Lead Economy-China</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bjectives of this project are to (1) review and document available standards for renewable energy systems for  (a) off-grid applications, including mini-grids and stand-alone systems, and (b) grid-interactive applications,  (2) categorize according to types of standards (e.g. components, systems, interconnections, safety), and (3) prepare harmonized/synthesized proposed standards for APEC econom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ollaborative IV Activities</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ption of Renewable Energy Standards (EWG-01/2002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ve V: Distributed Resources: Lead Economy-New Zealand</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of the Distributed Energy Resources (DER) Collaborative is to support the development of partnerships that will facilitate the exchange of information enabling greater investment in DER in the region. </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Develop the business case for DER</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Demonstrate DER technologie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Exchange information supporting DER</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Study DER standard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Explore innovative financing mechanisms for D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ve V Activitie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VIII): Building and Developing an APEC Renewable-Energy Collaboratives Projects Integrator (APEC-C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VI): Workshop on advances in electricity storage in support of distributed renewable energy based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VI: Renewable-Energy Technology Applications</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rdia New"/>
              </a:rPr>
              <a:t>The objective of this collaborative is to identify and demonstrate the potential applications of renewable energy technologies in the APEC region.  The collaborative also aims to set up a database on renewable energy technologies, applications and best practices, and to hold a workshop regularly for information exchanges.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llaborative VI Activities</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Cordia New"/>
              </a:rPr>
              <a:t>Solar Energy Park</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Cordia New"/>
              </a:rPr>
              <a:t>Biomass Energy Center</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Cordia New"/>
              </a:rPr>
              <a:t>Best Practices for Biomass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Cordia New"/>
              </a:rPr>
              <a:t>Applications</a:t>
            </a:r>
            <a:r>
              <a:rPr b="0" lang="en-GB" sz="2400" spc="-1" strike="noStrike">
                <a:solidFill>
                  <a:srgbClr val="000000"/>
                </a:solidFill>
                <a:latin typeface="Times New Roman"/>
              </a:rPr>
              <a:t>Monitoring and Assessing the Design, Operation and Performance of an</a:t>
            </a:r>
            <a:r>
              <a:rPr b="0" lang="en-US" sz="2400" spc="-1" strike="noStrike">
                <a:solidFill>
                  <a:srgbClr val="000000"/>
                </a:solidFill>
                <a:latin typeface="Times New Roman"/>
              </a:rPr>
              <a:t> </a:t>
            </a:r>
            <a:r>
              <a:rPr b="0" lang="en-GB" sz="2400" spc="-1" strike="noStrike">
                <a:solidFill>
                  <a:srgbClr val="000000"/>
                </a:solidFill>
                <a:latin typeface="Times New Roman"/>
              </a:rPr>
              <a:t>Ocean Thermal Energy Conversion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hop on advances in electricity storage in support of distributed renewable energy based system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Cordia New"/>
              </a:rPr>
              <a:t>Design of Renewable Energy Based Hybrid Systems for Schools in Remote Are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ve VII: Web-Based Renewable Energy Information Dissemination: Canada</a:t>
            </a:r>
            <a:endParaRPr b="0" lang="en-US" sz="3600" spc="-1" strike="noStrike">
              <a:solidFill>
                <a:srgbClr val="000000"/>
              </a:solidFill>
              <a:latin typeface="Times New Roman"/>
            </a:endParaRPr>
          </a:p>
        </p:txBody>
      </p:sp>
      <p:sp>
        <p:nvSpPr>
          <p:cNvPr id="71" name="PlaceHolder 2"/>
          <p:cNvSpPr>
            <a:spLocks noGrp="1"/>
          </p:cNvSpPr>
          <p:nvPr>
            <p:ph/>
          </p:nvPr>
        </p:nvSpPr>
        <p:spPr>
          <a:xfrm>
            <a:off x="533520" y="2743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bjective of this collaborative is to provide news and information to a wide range of targets within APEC economies on a range of renewable energy applications. These data will validate the feasible applications of renewable energy technologies and provide complete information on the "how-when-where" for interested parties.  This will be provided via an internet site that offers information on selected aspects of RENEWABLE ENERGY development in APEC economies.  We have developed a first draft of a shell which is posted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http://207.236.3.190/smallhydro/apec/index.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aborative VII Activitie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liverable is information contained on a web portal that is timely and relevant and value-added and flexible</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000" spc="-1" strike="noStrike">
                <a:solidFill>
                  <a:srgbClr val="000000"/>
                </a:solidFill>
                <a:latin typeface="Arial"/>
              </a:rPr>
              <a:t>Database of RE equipment suppliers / consultants in APEC regions</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abase of relevant projects within APEC regions</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ibliography of relevant laws, regulations and standards for each region</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sign tools for install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aborative VIII: Financing: Lead Economy-Mexico</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bjective of this collaborative is to provide a roadmap in the form of a set of guides, tools and databases available through a website that will facilitate financing of renewable energy projects in the APEC region through existing international commercial and multi-lateral financing mechanism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aborative VIII Activitie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roadmap for the APEC Reg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ing and Developing an APEC Renewable-Energy        Collaboratives Projects Integrator (APEC-CP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EC 21</a:t>
            </a:r>
            <a:r>
              <a:rPr b="1" lang="en-US" sz="2800" spc="-1" strike="noStrike" baseline="30000">
                <a:solidFill>
                  <a:srgbClr val="000000"/>
                </a:solidFill>
                <a:latin typeface="Times New Roman"/>
              </a:rPr>
              <a:t>st</a:t>
            </a:r>
            <a:r>
              <a:rPr b="1" lang="en-US" sz="2800" spc="-1" strike="noStrike">
                <a:solidFill>
                  <a:srgbClr val="000000"/>
                </a:solidFill>
                <a:latin typeface="Times New Roman"/>
              </a:rPr>
              <a:t> Century Renewable Energy Development Initiative</a:t>
            </a:r>
            <a:endParaRPr b="0" lang="en-US" sz="2800" spc="-1" strike="noStrike">
              <a:solidFill>
                <a:srgbClr val="000000"/>
              </a:solidFill>
              <a:latin typeface="Times New Roman"/>
            </a:endParaRPr>
          </a:p>
        </p:txBody>
      </p:sp>
      <p:sp>
        <p:nvSpPr>
          <p:cNvPr id="4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unched in May 2000</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unched by the United States at the 4</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PEC Energy Ministers meeting </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d within the EGNRE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ulti-Year Work Program</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To advance the use of renewable energy for sustainable economic development and growth of the APEC region. </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800" spc="-1" strike="noStrike">
                <a:solidFill>
                  <a:srgbClr val="000000"/>
                </a:solidFill>
                <a:latin typeface="Arial"/>
              </a:rPr>
              <a:t>(</a:t>
            </a:r>
            <a:r>
              <a:rPr b="0" lang="en-US" sz="2800" spc="-1" strike="noStrike">
                <a:solidFill>
                  <a:srgbClr val="000000"/>
                </a:solidFill>
                <a:latin typeface="Arial"/>
              </a:rPr>
              <a:t>http://www.apecnetwork.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Year Work Plans Were Developed for 8 Collaboratives </a:t>
            </a:r>
            <a:endParaRPr b="0" lang="en-US" sz="4400" spc="-1" strike="noStrike">
              <a:solidFill>
                <a:srgbClr val="000000"/>
              </a:solidFill>
              <a:latin typeface="Times New Roman"/>
            </a:endParaRPr>
          </a:p>
        </p:txBody>
      </p:sp>
      <p:sp>
        <p:nvSpPr>
          <p:cNvPr id="45" name="PlaceHolder 2"/>
          <p:cNvSpPr>
            <a:spLocks noGrp="1"/>
          </p:cNvSpPr>
          <p:nvPr>
            <p:ph/>
          </p:nvPr>
        </p:nvSpPr>
        <p:spPr>
          <a:xfrm>
            <a:off x="685440" y="2361960"/>
            <a:ext cx="7620120" cy="380988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lear description of the proposed collaborations and potential projects within each collabor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and objectiv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ed implementation plan and time horiz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ology for obtaining private-sector and NGO participation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ab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Co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ve I: Stakeholders Dialogues, Outreach Forums and Symposiums: Lead Economy-USA</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2666520"/>
            <a:ext cx="7696080" cy="3581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The collaborative links together the various outreach activities of the Expert Group on New and Renewable Energy Technologies which are associated with bringing renewable energy information to the economic leaders, energy ministers, and their staffs.  The collaborative will include the facilitation of stakeholder dialogues, outreach forums, and renewable energy related symposium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aborative I Activiti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Private Sector Renewable Energy Foru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ynthesis of 21</a:t>
            </a:r>
            <a:r>
              <a:rPr b="0" lang="en-US" sz="2400" spc="-1" strike="noStrike" baseline="30000">
                <a:solidFill>
                  <a:srgbClr val="000000"/>
                </a:solidFill>
                <a:latin typeface="Times New Roman"/>
                <a:ea typeface="SimSun"/>
              </a:rPr>
              <a:t>st</a:t>
            </a:r>
            <a:r>
              <a:rPr b="0" lang="en-US" sz="2400" spc="-1" strike="noStrike">
                <a:solidFill>
                  <a:srgbClr val="000000"/>
                </a:solidFill>
                <a:latin typeface="Times New Roman"/>
                <a:ea typeface="SimSun"/>
              </a:rPr>
              <a:t> Century APEC Member Surve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PEC 2002 New and Renewable Energy Fai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Private Sector Renewable Energy Forum I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Background Document and Vision on the Use and Benefits of Renewable Energy in the APEC Reg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PEC Private-Sector Summit on Market-Based Sustainable Develop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ve II: Micro-Business Development: Lead Economy-USA</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ollaborative fosters the development of micro-enterprise activity using renewable energy technologies in rural and remote regions of APEC economies.  The collaborative uses technical and business expertise within specific APEC economies to identify viable micro-enterprise activities that create income-generation opportunities that raise the standard of living of rural populations, and is self-replicated in other communit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aborative II Activities</a:t>
            </a:r>
            <a:endParaRPr b="0" lang="en-US" sz="3600" spc="-1" strike="noStrike">
              <a:solidFill>
                <a:srgbClr val="000000"/>
              </a:solidFill>
              <a:latin typeface="Times New Roman"/>
            </a:endParaRPr>
          </a:p>
        </p:txBody>
      </p:sp>
      <p:sp>
        <p:nvSpPr>
          <p:cNvPr id="53" name="PlaceHolder 2"/>
          <p:cNvSpPr>
            <a:spLocks noGrp="1"/>
          </p:cNvSpPr>
          <p:nvPr>
            <p:ph/>
          </p:nvPr>
        </p:nvSpPr>
        <p:spPr>
          <a:xfrm>
            <a:off x="533520" y="1447920"/>
            <a:ext cx="7772400" cy="4114800"/>
          </a:xfrm>
          <a:prstGeom prst="rect">
            <a:avLst/>
          </a:prstGeom>
          <a:noFill/>
          <a:ln w="0">
            <a:noFill/>
          </a:ln>
        </p:spPr>
        <p:txBody>
          <a:bodyPr lIns="90000" rIns="90000" tIns="46800" bIns="46800" anchor="t">
            <a:normAutofit fontScale="89000"/>
          </a:bodyPr>
          <a:p>
            <a:pPr marL="305280" indent="-3052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eenstar Micro-Enterprise Project Combining Solar Power and Internet Connectivity for Sustainable Development (EWG-SF02-5)</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star Micro-Enterprise Project Phase 2--Replicating Combining Solar Power and Internet Connectivity Concept for Sustainable Development</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ting the Greenstar Project in Indonesia in 2004</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ing a case-study report on micro-enterprise development using renewables in 2003</a:t>
            </a:r>
            <a:endParaRPr b="0" lang="en-US" sz="2400" spc="-1" strike="noStrike">
              <a:solidFill>
                <a:srgbClr val="000000"/>
              </a:solidFill>
              <a:latin typeface="Times New Roman"/>
            </a:endParaRPr>
          </a:p>
          <a:p>
            <a:pPr marL="305280" indent="-3052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on of an “APEC Business Development Guide for Micro-Enterprise”, in early 2004.</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borative III: Renewable-Energy Training and Certification Network: Australia</a:t>
            </a:r>
            <a:endParaRPr b="0" lang="en-US" sz="2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collaborative project involves the identification of currently available renewable energy training and certification systems within member economies; an assessment of the needs of member economies for qualified staff to plan, design, install, operate and maintain renewable energy systems; an assessment of the gap between currently available training and current needs and an assessment of how training resources may be allocated to better meet the needs of member countri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llaborative III Activiti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and Accreditation Needs and Capabilities Study    (EWG-04/2002)</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nalysis of Needs Assess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dentification of Available Training Resourc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ridging the Skills Gap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raining Resource Allo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22:01:04Z</dcterms:created>
  <dc:creator>Cary Bloyd</dc:creator>
  <dc:description/>
  <dc:language>en-US</dc:language>
  <cp:lastModifiedBy>Cary Bloyd</cp:lastModifiedBy>
  <dcterms:modified xsi:type="dcterms:W3CDTF">2002-11-04T23:38:00Z</dcterms:modified>
  <cp:revision>9</cp:revision>
  <dc:subject/>
  <dc:title>APEC 21st Century Renewable Energy Development Initiative</dc:title>
</cp:coreProperties>
</file>